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1.png" ContentType="image/png"/>
  <Override PartName="/ppt/media/image20.png" ContentType="image/png"/>
  <Override PartName="/ppt/media/image2.png" ContentType="image/png"/>
  <Override PartName="/ppt/media/image19.wmf" ContentType="image/x-wmf"/>
  <Override PartName="/ppt/media/image18.jpeg" ContentType="image/jpeg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3C9-071A-4833-B395-83C2E2D40D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封面页，需列出课程编码、课程名称和课程开发室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要求：每个子课程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位编码的课程）要求做一个这样的胶片，胶片文件命名为“课程编码 课程名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页按产品分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，各产品使用自己的封面，把其他封面直接删除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7391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95280" y="6478560"/>
            <a:ext cx="2089080" cy="217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8B3A-52C1-4AA6-BF8A-844B57BB8B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301680"/>
            <a:ext cx="1295640" cy="7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08360" y="5300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658332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司版权所有，未经授权不得使用与传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20.png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1640" y="2204640"/>
            <a:ext cx="558036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L-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02 TCP-I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原理和子网规划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0" y="3284280"/>
            <a:ext cx="237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SUE  4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端口号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传输层协议用端口号来标识和区分各种上层应用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84360" y="2349360"/>
            <a:ext cx="8127720" cy="3658320"/>
            <a:chOff x="684360" y="2349360"/>
            <a:chExt cx="8127720" cy="3658320"/>
          </a:xfrm>
        </p:grpSpPr>
        <p:sp>
          <p:nvSpPr>
            <p:cNvPr id="387" name=""/>
            <p:cNvSpPr/>
            <p:nvPr/>
          </p:nvSpPr>
          <p:spPr>
            <a:xfrm>
              <a:off x="1903320" y="4488480"/>
              <a:ext cx="243864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3720" y="4488480"/>
              <a:ext cx="243864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636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5164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4692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104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7036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3704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6880" y="239544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57960" y="23954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1280" y="23954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Tel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08960" y="23954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21520" y="2395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66400" y="239544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T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02280" y="246564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SN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16760" y="4543560"/>
              <a:ext cx="91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TC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77280" y="4529160"/>
              <a:ext cx="102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UD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70160" y="2970360"/>
              <a:ext cx="1600200" cy="14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4560" y="2970360"/>
              <a:ext cx="761760" cy="138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198600" y="3039480"/>
              <a:ext cx="2286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274560" y="3039480"/>
              <a:ext cx="11430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503160" y="3039480"/>
              <a:ext cx="20574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3560" y="3039480"/>
              <a:ext cx="4572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475320" y="3039480"/>
              <a:ext cx="45720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703920" y="3039480"/>
              <a:ext cx="144792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98760" y="5385600"/>
              <a:ext cx="670536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27520" y="5426280"/>
              <a:ext cx="22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IP </a:t>
              </a:r>
              <a:r>
                <a:rPr b="0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数 据 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70360" y="5109480"/>
              <a:ext cx="1371600" cy="20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179680" y="5109480"/>
              <a:ext cx="1143000" cy="20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" y="3871440"/>
              <a:ext cx="546120" cy="17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套  接   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279440" y="326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76120" y="3186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92560" y="318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10120" y="318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41960" y="303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65840" y="318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56560" y="3186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连接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42920" y="1125360"/>
            <a:ext cx="7238880" cy="4724280"/>
            <a:chOff x="1042920" y="1125360"/>
            <a:chExt cx="7238880" cy="4724280"/>
          </a:xfrm>
        </p:grpSpPr>
        <p:sp>
          <p:nvSpPr>
            <p:cNvPr id="427" name=""/>
            <p:cNvSpPr/>
            <p:nvPr/>
          </p:nvSpPr>
          <p:spPr>
            <a:xfrm rot="720000">
              <a:off x="5157360" y="5468760"/>
              <a:ext cx="1538280" cy="2700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60000">
              <a:off x="2793600" y="4090320"/>
              <a:ext cx="1903320" cy="61560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20000">
              <a:off x="5140080" y="3300120"/>
              <a:ext cx="1538280" cy="2700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0" name=""/>
            <p:cNvGraphicFramePr/>
            <p:nvPr/>
          </p:nvGraphicFramePr>
          <p:xfrm>
            <a:off x="3862440" y="1125360"/>
            <a:ext cx="1981080" cy="132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62440" y="1125360"/>
                      <a:ext cx="1981080" cy="13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2" name="" descr=""/>
            <p:cNvPicPr/>
            <p:nvPr/>
          </p:nvPicPr>
          <p:blipFill>
            <a:blip r:embed="rId3"/>
            <a:stretch/>
          </p:blipFill>
          <p:spPr>
            <a:xfrm>
              <a:off x="2185920" y="1506240"/>
              <a:ext cx="91440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643120" y="2420640"/>
              <a:ext cx="0" cy="3429000"/>
            </a:xfrm>
            <a:prstGeom prst="line">
              <a:avLst/>
            </a:prstGeom>
            <a:ln w="381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4"/>
            <a:stretch/>
          </p:blipFill>
          <p:spPr>
            <a:xfrm>
              <a:off x="6605640" y="1582560"/>
              <a:ext cx="4712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322160" y="158148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48040" y="1887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38600" y="18871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57920" y="2344320"/>
              <a:ext cx="0" cy="3505320"/>
            </a:xfrm>
            <a:prstGeom prst="line">
              <a:avLst/>
            </a:prstGeom>
            <a:ln w="381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">
              <a:off x="3480840" y="2773440"/>
              <a:ext cx="1676520" cy="368280"/>
            </a:xfrm>
            <a:prstGeom prst="rect">
              <a:avLst/>
            </a:prstGeom>
            <a:solidFill>
              <a:srgbClr val="ffff00"/>
            </a:solidFill>
            <a:ln cap="rnd" w="9360">
              <a:solidFill>
                <a:srgbClr val="00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YN(seq=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20880000">
              <a:off x="4066920" y="3866040"/>
              <a:ext cx="2301840" cy="368280"/>
            </a:xfrm>
            <a:prstGeom prst="rect">
              <a:avLst/>
            </a:prstGeom>
            <a:solidFill>
              <a:srgbClr val="00cc99"/>
            </a:solidFill>
            <a:ln cap="rnd" w="9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YN(seq=b,ack=a+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20000">
              <a:off x="3399840" y="4805280"/>
              <a:ext cx="2389320" cy="642600"/>
            </a:xfrm>
            <a:prstGeom prst="rect">
              <a:avLst/>
            </a:prstGeom>
            <a:solidFill>
              <a:srgbClr val="ffff00"/>
            </a:solidFill>
            <a:ln cap="rnd" w="9360">
              <a:solidFill>
                <a:srgbClr val="00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YN(seq=a+1,ack=b+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42920" y="5697360"/>
              <a:ext cx="91440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20000">
              <a:off x="2789280" y="2655720"/>
              <a:ext cx="696960" cy="3636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20880000">
              <a:off x="6453000" y="3714840"/>
              <a:ext cx="228600" cy="7632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20000">
              <a:off x="2798280" y="4790520"/>
              <a:ext cx="612720" cy="4428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42920" y="2192760"/>
              <a:ext cx="1049400" cy="397080"/>
            </a:xfrm>
            <a:prstGeom prst="wedgeRoundRectCallout">
              <a:avLst>
                <a:gd name="adj1" fmla="val 71467"/>
                <a:gd name="adj2" fmla="val -112134"/>
                <a:gd name="adj3" fmla="val 16667"/>
              </a:avLst>
            </a:prstGeom>
            <a:solidFill>
              <a:srgbClr val="33cccc"/>
            </a:solidFill>
            <a:ln cap="rnd" w="936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91440" y="2268720"/>
              <a:ext cx="990360" cy="397080"/>
            </a:xfrm>
            <a:prstGeom prst="wedgeRoundRectCallout">
              <a:avLst>
                <a:gd name="adj1" fmla="val -68092"/>
                <a:gd name="adj2" fmla="val -126175"/>
                <a:gd name="adj3" fmla="val 16667"/>
              </a:avLst>
            </a:prstGeom>
            <a:solidFill>
              <a:srgbClr val="33cccc"/>
            </a:solidFill>
            <a:ln cap="rnd" w="936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滑动窗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6877080" y="1197000"/>
            <a:ext cx="685800" cy="6652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471240" cy="7318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50920" y="2421000"/>
            <a:ext cx="2087640" cy="397080"/>
          </a:xfrm>
          <a:prstGeom prst="wedgeRoundRectCallout">
            <a:avLst>
              <a:gd name="adj1" fmla="val 12032"/>
              <a:gd name="adj2" fmla="val -184597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需要修改窗口大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7080" y="2421000"/>
            <a:ext cx="1676520" cy="397080"/>
          </a:xfrm>
          <a:prstGeom prst="wedgeRoundRectCallout">
            <a:avLst>
              <a:gd name="adj1" fmla="val -33620"/>
              <a:gd name="adj2" fmla="val -184597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发送数据太快了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771640" y="1341360"/>
            <a:ext cx="3816360" cy="4940280"/>
            <a:chOff x="2771640" y="1341360"/>
            <a:chExt cx="3816360" cy="4940280"/>
          </a:xfrm>
        </p:grpSpPr>
        <p:sp>
          <p:nvSpPr>
            <p:cNvPr id="454" name=""/>
            <p:cNvSpPr/>
            <p:nvPr/>
          </p:nvSpPr>
          <p:spPr>
            <a:xfrm>
              <a:off x="2843280" y="5733720"/>
              <a:ext cx="3671640" cy="5032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43280" y="5302080"/>
              <a:ext cx="374472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842920" y="4652640"/>
              <a:ext cx="3671640" cy="57636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3280" y="4005000"/>
              <a:ext cx="367164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43280" y="3717720"/>
              <a:ext cx="3671640" cy="5032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771640" y="3141360"/>
              <a:ext cx="3743280" cy="5032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71640" y="2493720"/>
              <a:ext cx="374328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71640" y="2133360"/>
              <a:ext cx="374328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71640" y="1773000"/>
              <a:ext cx="374328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1640" y="1412640"/>
              <a:ext cx="3743280" cy="64944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71640" y="1341360"/>
              <a:ext cx="71640" cy="4824360"/>
            </a:xfrm>
            <a:prstGeom prst="line">
              <a:avLst/>
            </a:prstGeom>
            <a:ln w="2844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14920" y="1341360"/>
              <a:ext cx="0" cy="4940280"/>
            </a:xfrm>
            <a:prstGeom prst="line">
              <a:avLst/>
            </a:prstGeom>
            <a:ln w="2844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3412080" y="1422720"/>
              <a:ext cx="2033280" cy="522360"/>
              <a:chOff x="3412080" y="1422720"/>
              <a:chExt cx="2033280" cy="522360"/>
            </a:xfrm>
          </p:grpSpPr>
          <p:sp>
            <p:nvSpPr>
              <p:cNvPr id="467" name=""/>
              <p:cNvSpPr/>
              <p:nvPr/>
            </p:nvSpPr>
            <p:spPr>
              <a:xfrm rot="480000">
                <a:off x="3423960" y="1491480"/>
                <a:ext cx="100872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480000">
                <a:off x="4425120" y="1632240"/>
                <a:ext cx="100800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3339360" y="1784520"/>
              <a:ext cx="2033280" cy="520920"/>
              <a:chOff x="3339360" y="1784520"/>
              <a:chExt cx="2033280" cy="520920"/>
            </a:xfrm>
          </p:grpSpPr>
          <p:sp>
            <p:nvSpPr>
              <p:cNvPr id="470" name=""/>
              <p:cNvSpPr/>
              <p:nvPr/>
            </p:nvSpPr>
            <p:spPr>
              <a:xfrm rot="480000">
                <a:off x="3351240" y="1853280"/>
                <a:ext cx="100836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480000">
                <a:off x="4352400" y="1992600"/>
                <a:ext cx="100800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268080" y="2142720"/>
              <a:ext cx="2035800" cy="524880"/>
              <a:chOff x="3268080" y="2142720"/>
              <a:chExt cx="2035800" cy="524880"/>
            </a:xfrm>
          </p:grpSpPr>
          <p:sp>
            <p:nvSpPr>
              <p:cNvPr id="473" name=""/>
              <p:cNvSpPr/>
              <p:nvPr/>
            </p:nvSpPr>
            <p:spPr>
              <a:xfrm rot="480000">
                <a:off x="3279960" y="2211840"/>
                <a:ext cx="101124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480000">
                <a:off x="4275720" y="2354400"/>
                <a:ext cx="101592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3839400" y="3075480"/>
              <a:ext cx="2088720" cy="530280"/>
              <a:chOff x="3839400" y="3075480"/>
              <a:chExt cx="2088720" cy="530280"/>
            </a:xfrm>
          </p:grpSpPr>
          <p:sp>
            <p:nvSpPr>
              <p:cNvPr id="476" name=""/>
              <p:cNvSpPr/>
              <p:nvPr/>
            </p:nvSpPr>
            <p:spPr>
              <a:xfrm rot="21120000">
                <a:off x="3851280" y="3291120"/>
                <a:ext cx="1037160" cy="243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ack 409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1120000">
                <a:off x="4879080" y="3146400"/>
                <a:ext cx="1037160" cy="2437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204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268080" y="3669120"/>
              <a:ext cx="2030040" cy="537840"/>
              <a:chOff x="3268080" y="3669120"/>
              <a:chExt cx="2030040" cy="537840"/>
            </a:xfrm>
          </p:grpSpPr>
          <p:sp>
            <p:nvSpPr>
              <p:cNvPr id="479" name=""/>
              <p:cNvSpPr/>
              <p:nvPr/>
            </p:nvSpPr>
            <p:spPr>
              <a:xfrm rot="480000">
                <a:off x="3279960" y="3737880"/>
                <a:ext cx="100584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480000">
                <a:off x="4277880" y="3863520"/>
                <a:ext cx="1005840" cy="274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196440" y="4015800"/>
              <a:ext cx="2023200" cy="520920"/>
              <a:chOff x="3196440" y="4015800"/>
              <a:chExt cx="2023200" cy="520920"/>
            </a:xfrm>
          </p:grpSpPr>
          <p:sp>
            <p:nvSpPr>
              <p:cNvPr id="482" name=""/>
              <p:cNvSpPr/>
              <p:nvPr/>
            </p:nvSpPr>
            <p:spPr>
              <a:xfrm rot="480000">
                <a:off x="3208320" y="4084200"/>
                <a:ext cx="100440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480000">
                <a:off x="4203000" y="4223880"/>
                <a:ext cx="100440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 rot="21120000">
              <a:off x="4066920" y="4802400"/>
              <a:ext cx="1118880" cy="243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ack 61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1120000">
              <a:off x="5146200" y="4657320"/>
              <a:ext cx="976320" cy="243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n20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268080" y="5307120"/>
              <a:ext cx="2104200" cy="531000"/>
              <a:chOff x="3268080" y="5307120"/>
              <a:chExt cx="2104200" cy="531000"/>
            </a:xfrm>
          </p:grpSpPr>
          <p:sp>
            <p:nvSpPr>
              <p:cNvPr id="487" name=""/>
              <p:cNvSpPr/>
              <p:nvPr/>
            </p:nvSpPr>
            <p:spPr>
              <a:xfrm rot="480000">
                <a:off x="3279600" y="5378400"/>
                <a:ext cx="104400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480000">
                <a:off x="4313520" y="5522400"/>
                <a:ext cx="104652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3196800" y="5739480"/>
              <a:ext cx="2102400" cy="531720"/>
              <a:chOff x="3196800" y="5739480"/>
              <a:chExt cx="2102400" cy="531720"/>
            </a:xfrm>
          </p:grpSpPr>
          <p:sp>
            <p:nvSpPr>
              <p:cNvPr id="490" name=""/>
              <p:cNvSpPr/>
              <p:nvPr/>
            </p:nvSpPr>
            <p:spPr>
              <a:xfrm rot="480000">
                <a:off x="3208320" y="5810760"/>
                <a:ext cx="104436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480000">
                <a:off x="4242600" y="5955840"/>
                <a:ext cx="104436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196800" y="2501640"/>
              <a:ext cx="2035800" cy="524880"/>
              <a:chOff x="3196800" y="2501640"/>
              <a:chExt cx="2035800" cy="524880"/>
            </a:xfrm>
          </p:grpSpPr>
          <p:sp>
            <p:nvSpPr>
              <p:cNvPr id="493" name=""/>
              <p:cNvSpPr/>
              <p:nvPr/>
            </p:nvSpPr>
            <p:spPr>
              <a:xfrm rot="480000">
                <a:off x="3208680" y="2570760"/>
                <a:ext cx="101124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480000">
                <a:off x="4204440" y="2713320"/>
                <a:ext cx="101592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层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03280" y="1844640"/>
            <a:ext cx="2463840" cy="58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2619360"/>
            <a:ext cx="2463840" cy="58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3395520"/>
            <a:ext cx="2463840" cy="58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03280" y="4221000"/>
            <a:ext cx="2463840" cy="776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接入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1932120"/>
            <a:ext cx="1471680" cy="40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0200" y="2674800"/>
            <a:ext cx="1287360" cy="401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39800" y="3422520"/>
            <a:ext cx="1211400" cy="424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76720" y="2125800"/>
            <a:ext cx="3021120" cy="2724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72120" y="2395440"/>
            <a:ext cx="2643120" cy="897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18920" y="2276640"/>
            <a:ext cx="43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16680" y="3036960"/>
            <a:ext cx="1985760" cy="507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2852640"/>
            <a:ext cx="82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3500280"/>
            <a:ext cx="1127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18560" y="4221000"/>
            <a:ext cx="1024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75040" y="356724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报文格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538280" y="1676520"/>
            <a:ext cx="6705720" cy="4267080"/>
            <a:chOff x="1538280" y="1676520"/>
            <a:chExt cx="6705720" cy="4267080"/>
          </a:xfrm>
        </p:grpSpPr>
        <p:grpSp>
          <p:nvGrpSpPr>
            <p:cNvPr id="513" name=""/>
            <p:cNvGrpSpPr/>
            <p:nvPr/>
          </p:nvGrpSpPr>
          <p:grpSpPr>
            <a:xfrm>
              <a:off x="1538280" y="1676520"/>
              <a:ext cx="6705720" cy="4267080"/>
              <a:chOff x="1538280" y="1676520"/>
              <a:chExt cx="6705720" cy="4267080"/>
            </a:xfrm>
          </p:grpSpPr>
          <p:sp>
            <p:nvSpPr>
              <p:cNvPr id="514" name=""/>
              <p:cNvSpPr/>
              <p:nvPr/>
            </p:nvSpPr>
            <p:spPr>
              <a:xfrm>
                <a:off x="1538280" y="1676520"/>
                <a:ext cx="6705720" cy="4267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538280" y="236232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538280" y="2895480"/>
                <a:ext cx="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38280" y="304812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38280" y="380988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538280" y="525780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538280" y="4572000"/>
                <a:ext cx="66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91320" y="167652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76720" y="1676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291120" y="1676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81680" y="2362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14800" y="3048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1615680" y="1874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版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68880" y="1874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报文长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11880" y="1874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服务类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43480" y="182808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   长  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64000" y="255996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标   识   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96960" y="248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标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09960" y="255996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片  偏  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27880" y="319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生存时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60120" y="32457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协   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2960" y="3245760"/>
              <a:ext cx="11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报 头 校 验 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57480" y="4083840"/>
              <a:ext cx="125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源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地  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29320" y="4769640"/>
              <a:ext cx="151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目  的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地  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88960" y="545544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选  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R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－地址解析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1763280" y="3284280"/>
            <a:ext cx="1043280" cy="1474920"/>
          </a:xfrm>
          <a:prstGeom prst="wedgeRoundRectCallout">
            <a:avLst>
              <a:gd name="adj1" fmla="val -39777"/>
              <a:gd name="adj2" fmla="val 71152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需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.0.0.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地址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89160" y="5603760"/>
            <a:ext cx="6476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19640" y="30686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1160" y="308916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059280" y="2577960"/>
            <a:ext cx="591840" cy="573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5632560" y="2575080"/>
            <a:ext cx="595080" cy="576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684360" y="2637720"/>
            <a:ext cx="233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0.0.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:00-E0-FC-00-00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19240" y="2708280"/>
            <a:ext cx="23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0.0.0.2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:00-E0-FC-00-00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593360" y="3165480"/>
            <a:ext cx="4038840" cy="2133360"/>
            <a:chOff x="1593360" y="3165480"/>
            <a:chExt cx="4038840" cy="2133360"/>
          </a:xfrm>
        </p:grpSpPr>
        <p:sp>
          <p:nvSpPr>
            <p:cNvPr id="549" name=""/>
            <p:cNvSpPr/>
            <p:nvPr/>
          </p:nvSpPr>
          <p:spPr>
            <a:xfrm>
              <a:off x="3727080" y="31654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1593360" y="5298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60600" y="5222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781800" y="422064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P  Reques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032000" y="2631600"/>
            <a:ext cx="1447560" cy="457560"/>
            <a:chOff x="4032000" y="2631600"/>
            <a:chExt cx="1447560" cy="457560"/>
          </a:xfrm>
        </p:grpSpPr>
        <p:sp>
          <p:nvSpPr>
            <p:cNvPr id="554" name=""/>
            <p:cNvSpPr/>
            <p:nvPr/>
          </p:nvSpPr>
          <p:spPr>
            <a:xfrm flipH="1">
              <a:off x="4032000" y="30891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69440" y="2631600"/>
              <a:ext cx="111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P 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427640" y="1557360"/>
            <a:ext cx="2305080" cy="934920"/>
          </a:xfrm>
          <a:prstGeom prst="wedgeRoundRectCallout">
            <a:avLst>
              <a:gd name="adj1" fmla="val -45314"/>
              <a:gd name="adj2" fmla="val 63921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00720" y="1700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.0.0.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应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0-E0-FC-00-00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AR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－反向地址解析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1618920" y="3284280"/>
            <a:ext cx="1043280" cy="1474920"/>
          </a:xfrm>
          <a:prstGeom prst="wedgeRoundRectCallout">
            <a:avLst>
              <a:gd name="adj1" fmla="val -39777"/>
              <a:gd name="adj2" fmla="val 71152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我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地址是什么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44440" y="560376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74920" y="30686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6440" y="308916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916360" y="257976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487840" y="2573280"/>
            <a:ext cx="596880" cy="5778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619280" y="270828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无盘工作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30160" y="27810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R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449000" y="3165480"/>
            <a:ext cx="4038840" cy="2133360"/>
            <a:chOff x="1449000" y="3165480"/>
            <a:chExt cx="4038840" cy="2133360"/>
          </a:xfrm>
        </p:grpSpPr>
        <p:sp>
          <p:nvSpPr>
            <p:cNvPr id="568" name=""/>
            <p:cNvSpPr/>
            <p:nvPr/>
          </p:nvSpPr>
          <p:spPr>
            <a:xfrm>
              <a:off x="3582720" y="31654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449000" y="5298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6240" y="5222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636720" y="42206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RP Reques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858480" y="2631600"/>
            <a:ext cx="1476360" cy="457560"/>
            <a:chOff x="3858480" y="2631600"/>
            <a:chExt cx="1476360" cy="457560"/>
          </a:xfrm>
        </p:grpSpPr>
        <p:sp>
          <p:nvSpPr>
            <p:cNvPr id="573" name=""/>
            <p:cNvSpPr/>
            <p:nvPr/>
          </p:nvSpPr>
          <p:spPr>
            <a:xfrm flipH="1">
              <a:off x="3887280" y="30891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58480" y="2631600"/>
              <a:ext cx="124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RP 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284720" y="1484280"/>
            <a:ext cx="2305080" cy="934920"/>
          </a:xfrm>
          <a:prstGeom prst="wedgeRoundRectCallout">
            <a:avLst>
              <a:gd name="adj1" fmla="val -45314"/>
              <a:gd name="adj2" fmla="val 63921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356000" y="170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你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地址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CM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1618920" y="3284280"/>
            <a:ext cx="1043280" cy="1474920"/>
          </a:xfrm>
          <a:prstGeom prst="wedgeRoundRectCallout">
            <a:avLst>
              <a:gd name="adj1" fmla="val -39777"/>
              <a:gd name="adj2" fmla="val 71152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可达吗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44440" y="560376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4920" y="30686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27640" y="3141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916360" y="2577960"/>
            <a:ext cx="590400" cy="5731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6012000" y="2592360"/>
            <a:ext cx="576000" cy="5587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583080" y="316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6240" y="522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38160" y="422064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MP Ech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641040" y="2631600"/>
            <a:ext cx="1694520" cy="457560"/>
            <a:chOff x="3641040" y="2631600"/>
            <a:chExt cx="1694520" cy="457560"/>
          </a:xfrm>
        </p:grpSpPr>
        <p:sp>
          <p:nvSpPr>
            <p:cNvPr id="588" name=""/>
            <p:cNvSpPr/>
            <p:nvPr/>
          </p:nvSpPr>
          <p:spPr>
            <a:xfrm flipH="1">
              <a:off x="3887640" y="30891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641040" y="2631600"/>
              <a:ext cx="168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Echo 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500720" y="1844640"/>
            <a:ext cx="1295280" cy="647640"/>
          </a:xfrm>
          <a:prstGeom prst="wedgeRoundRectCallout">
            <a:avLst>
              <a:gd name="adj1" fmla="val -41666"/>
              <a:gd name="adj2" fmla="val 70097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我在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59280" y="2133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15636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657600" y="1600200"/>
            <a:ext cx="4267080" cy="1498680"/>
            <a:chOff x="3657600" y="1600200"/>
            <a:chExt cx="4267080" cy="1498680"/>
          </a:xfrm>
        </p:grpSpPr>
        <p:sp>
          <p:nvSpPr>
            <p:cNvPr id="597" name=""/>
            <p:cNvSpPr/>
            <p:nvPr/>
          </p:nvSpPr>
          <p:spPr>
            <a:xfrm>
              <a:off x="3708360" y="2247840"/>
              <a:ext cx="42163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20960" y="3098880"/>
              <a:ext cx="42037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66080" y="1600200"/>
              <a:ext cx="198936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第一章  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TCP/IP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协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第二章  子网规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1"/>
            <a:stretch/>
          </p:blipFill>
          <p:spPr>
            <a:xfrm>
              <a:off x="3657600" y="2666880"/>
              <a:ext cx="311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2"/>
            <a:stretch/>
          </p:blipFill>
          <p:spPr>
            <a:xfrm>
              <a:off x="3657600" y="1828800"/>
              <a:ext cx="2970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10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唯一标示一台网络设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私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1440" y="3213000"/>
            <a:ext cx="8517240" cy="2233800"/>
            <a:chOff x="631440" y="3213000"/>
            <a:chExt cx="8517240" cy="2233800"/>
          </a:xfrm>
        </p:grpSpPr>
        <p:sp>
          <p:nvSpPr>
            <p:cNvPr id="606" name=""/>
            <p:cNvSpPr/>
            <p:nvPr/>
          </p:nvSpPr>
          <p:spPr>
            <a:xfrm>
              <a:off x="4649760" y="3471840"/>
              <a:ext cx="14508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49760" y="3460680"/>
              <a:ext cx="13680" cy="2232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35" y="0"/>
                  </a:moveTo>
                  <a:lnTo>
                    <a:pt x="0" y="27"/>
                  </a:lnTo>
                  <a:lnTo>
                    <a:pt x="34" y="56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12240" y="3462480"/>
              <a:ext cx="13680" cy="2196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0" y="56"/>
                  </a:moveTo>
                  <a:lnTo>
                    <a:pt x="33" y="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87840" y="3394080"/>
              <a:ext cx="1080" cy="60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5600" y="3394080"/>
              <a:ext cx="24480" cy="11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3497400"/>
              <a:ext cx="1080" cy="586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5600" y="3543480"/>
              <a:ext cx="2448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4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3080" y="3718080"/>
              <a:ext cx="14472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02720" y="3719520"/>
              <a:ext cx="14508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11160" y="3639960"/>
              <a:ext cx="1440" cy="60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97480" y="3639960"/>
              <a:ext cx="25920" cy="1116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97480" y="3790800"/>
              <a:ext cx="25920" cy="1116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0"/>
                  </a:moveTo>
                  <a:lnTo>
                    <a:pt x="33" y="28"/>
                  </a:lnTo>
                  <a:lnTo>
                    <a:pt x="66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38840" y="4456080"/>
              <a:ext cx="144720" cy="1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77280" y="4376880"/>
              <a:ext cx="1080" cy="619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64680" y="4376880"/>
              <a:ext cx="2484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64680" y="4527720"/>
              <a:ext cx="2484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3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95600" y="5354640"/>
              <a:ext cx="14472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26320" y="5356080"/>
              <a:ext cx="145080" cy="1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57720" y="5345280"/>
              <a:ext cx="13680" cy="2196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0" y="57"/>
                  </a:move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33320" y="5275440"/>
              <a:ext cx="1440" cy="615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21080" y="5275440"/>
              <a:ext cx="24840" cy="108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67" y="29"/>
                  </a:move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7920" y="4357800"/>
              <a:ext cx="14472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3400" y="4280040"/>
              <a:ext cx="24480" cy="108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15640" y="4383000"/>
              <a:ext cx="1440" cy="586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3400" y="4430880"/>
              <a:ext cx="24480" cy="108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3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935640" y="4005360"/>
              <a:ext cx="725400" cy="791640"/>
              <a:chOff x="935640" y="4005360"/>
              <a:chExt cx="725400" cy="791640"/>
            </a:xfrm>
          </p:grpSpPr>
          <p:sp>
            <p:nvSpPr>
              <p:cNvPr id="632" name=""/>
              <p:cNvSpPr/>
              <p:nvPr/>
            </p:nvSpPr>
            <p:spPr>
              <a:xfrm>
                <a:off x="1039680" y="4466880"/>
                <a:ext cx="533520" cy="14796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54080" y="4527000"/>
                <a:ext cx="80280" cy="20880"/>
              </a:xfrm>
              <a:custGeom>
                <a:avLst/>
                <a:gdLst/>
                <a:ahLst/>
                <a:rect l="l" t="t" r="r" b="b"/>
                <a:pathLst>
                  <a:path w="101" h="28">
                    <a:moveTo>
                      <a:pt x="0" y="16"/>
                    </a:moveTo>
                    <a:lnTo>
                      <a:pt x="16" y="28"/>
                    </a:lnTo>
                    <a:lnTo>
                      <a:pt x="86" y="28"/>
                    </a:lnTo>
                    <a:lnTo>
                      <a:pt x="101" y="16"/>
                    </a:lnTo>
                    <a:lnTo>
                      <a:pt x="101" y="14"/>
                    </a:lnTo>
                    <a:lnTo>
                      <a:pt x="86" y="0"/>
                    </a:lnTo>
                    <a:lnTo>
                      <a:pt x="17" y="0"/>
                    </a:lnTo>
                    <a:lnTo>
                      <a:pt x="0" y="1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265040" y="4487760"/>
                <a:ext cx="196560" cy="108000"/>
              </a:xfrm>
              <a:custGeom>
                <a:avLst/>
                <a:gdLst/>
                <a:ahLst/>
                <a:rect l="l" t="t" r="r" b="b"/>
                <a:pathLst>
                  <a:path w="247" h="142">
                    <a:moveTo>
                      <a:pt x="0" y="123"/>
                    </a:moveTo>
                    <a:lnTo>
                      <a:pt x="19" y="142"/>
                    </a:lnTo>
                    <a:lnTo>
                      <a:pt x="229" y="142"/>
                    </a:lnTo>
                    <a:lnTo>
                      <a:pt x="247" y="122"/>
                    </a:lnTo>
                    <a:lnTo>
                      <a:pt x="247" y="22"/>
                    </a:lnTo>
                    <a:lnTo>
                      <a:pt x="243" y="8"/>
                    </a:lnTo>
                    <a:lnTo>
                      <a:pt x="228" y="0"/>
                    </a:lnTo>
                    <a:lnTo>
                      <a:pt x="19" y="0"/>
                    </a:lnTo>
                    <a:lnTo>
                      <a:pt x="0" y="17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056240" y="4005360"/>
                <a:ext cx="492840" cy="401760"/>
              </a:xfrm>
              <a:custGeom>
                <a:avLst/>
                <a:gdLst/>
                <a:ahLst/>
                <a:rect l="l" t="t" r="r" b="b"/>
                <a:pathLst>
                  <a:path w="623" h="521">
                    <a:moveTo>
                      <a:pt x="0" y="495"/>
                    </a:moveTo>
                    <a:lnTo>
                      <a:pt x="7" y="514"/>
                    </a:lnTo>
                    <a:lnTo>
                      <a:pt x="30" y="521"/>
                    </a:lnTo>
                    <a:lnTo>
                      <a:pt x="593" y="521"/>
                    </a:lnTo>
                    <a:lnTo>
                      <a:pt x="615" y="515"/>
                    </a:lnTo>
                    <a:lnTo>
                      <a:pt x="623" y="492"/>
                    </a:lnTo>
                    <a:lnTo>
                      <a:pt x="623" y="33"/>
                    </a:lnTo>
                    <a:lnTo>
                      <a:pt x="618" y="10"/>
                    </a:lnTo>
                    <a:lnTo>
                      <a:pt x="598" y="0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0" y="33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94400" y="4047120"/>
                <a:ext cx="423720" cy="309240"/>
              </a:xfrm>
              <a:custGeom>
                <a:avLst/>
                <a:gdLst/>
                <a:ahLst/>
                <a:rect l="l" t="t" r="r" b="b"/>
                <a:pathLst>
                  <a:path w="537" h="401">
                    <a:moveTo>
                      <a:pt x="0" y="379"/>
                    </a:moveTo>
                    <a:lnTo>
                      <a:pt x="6" y="394"/>
                    </a:lnTo>
                    <a:lnTo>
                      <a:pt x="26" y="401"/>
                    </a:lnTo>
                    <a:lnTo>
                      <a:pt x="512" y="401"/>
                    </a:lnTo>
                    <a:lnTo>
                      <a:pt x="530" y="396"/>
                    </a:lnTo>
                    <a:lnTo>
                      <a:pt x="537" y="378"/>
                    </a:lnTo>
                    <a:lnTo>
                      <a:pt x="537" y="25"/>
                    </a:lnTo>
                    <a:lnTo>
                      <a:pt x="534" y="9"/>
                    </a:lnTo>
                    <a:lnTo>
                      <a:pt x="516" y="1"/>
                    </a:lnTo>
                    <a:lnTo>
                      <a:pt x="33" y="0"/>
                    </a:lnTo>
                    <a:lnTo>
                      <a:pt x="11" y="2"/>
                    </a:lnTo>
                    <a:lnTo>
                      <a:pt x="0" y="1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08440" y="4060800"/>
                <a:ext cx="398160" cy="279360"/>
              </a:xfrm>
              <a:custGeom>
                <a:avLst/>
                <a:gdLst/>
                <a:ahLst/>
                <a:rect l="l" t="t" r="r" b="b"/>
                <a:pathLst>
                  <a:path w="504" h="362">
                    <a:moveTo>
                      <a:pt x="0" y="343"/>
                    </a:moveTo>
                    <a:lnTo>
                      <a:pt x="6" y="357"/>
                    </a:lnTo>
                    <a:lnTo>
                      <a:pt x="25" y="362"/>
                    </a:lnTo>
                    <a:lnTo>
                      <a:pt x="481" y="362"/>
                    </a:lnTo>
                    <a:lnTo>
                      <a:pt x="497" y="357"/>
                    </a:lnTo>
                    <a:lnTo>
                      <a:pt x="504" y="342"/>
                    </a:lnTo>
                    <a:lnTo>
                      <a:pt x="504" y="25"/>
                    </a:lnTo>
                    <a:lnTo>
                      <a:pt x="499" y="8"/>
                    </a:lnTo>
                    <a:lnTo>
                      <a:pt x="482" y="0"/>
                    </a:lnTo>
                    <a:lnTo>
                      <a:pt x="28" y="0"/>
                    </a:lnTo>
                    <a:lnTo>
                      <a:pt x="8" y="3"/>
                    </a:lnTo>
                    <a:lnTo>
                      <a:pt x="0" y="17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39680" y="4494600"/>
                <a:ext cx="2109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39680" y="4587120"/>
                <a:ext cx="21096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64480" y="448776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64480" y="458712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81600" y="4503960"/>
                <a:ext cx="165960" cy="46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03200" y="4531680"/>
                <a:ext cx="122760" cy="64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267560" y="4520160"/>
                <a:ext cx="19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67560" y="4550040"/>
                <a:ext cx="1915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485360" y="4517640"/>
                <a:ext cx="66600" cy="324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935640" y="4635360"/>
                <a:ext cx="725400" cy="140760"/>
              </a:xfrm>
              <a:custGeom>
                <a:avLst/>
                <a:gdLst/>
                <a:ahLst/>
                <a:rect l="l" t="t" r="r" b="b"/>
                <a:pathLst>
                  <a:path w="919" h="181">
                    <a:moveTo>
                      <a:pt x="94" y="0"/>
                    </a:moveTo>
                    <a:lnTo>
                      <a:pt x="96" y="0"/>
                    </a:lnTo>
                    <a:lnTo>
                      <a:pt x="841" y="0"/>
                    </a:lnTo>
                    <a:lnTo>
                      <a:pt x="919" y="181"/>
                    </a:lnTo>
                    <a:lnTo>
                      <a:pt x="0" y="18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935640" y="4776120"/>
                <a:ext cx="725400" cy="20880"/>
              </a:xfrm>
              <a:custGeom>
                <a:avLst/>
                <a:gdLst/>
                <a:ahLst/>
                <a:rect l="l" t="t" r="r" b="b"/>
                <a:pathLst>
                  <a:path w="919" h="27">
                    <a:moveTo>
                      <a:pt x="0" y="0"/>
                    </a:moveTo>
                    <a:lnTo>
                      <a:pt x="919" y="0"/>
                    </a:lnTo>
                    <a:lnTo>
                      <a:pt x="895" y="27"/>
                    </a:lnTo>
                    <a:lnTo>
                      <a:pt x="26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023120" y="4646880"/>
                <a:ext cx="464760" cy="14040"/>
              </a:xfrm>
              <a:custGeom>
                <a:avLst/>
                <a:gdLst/>
                <a:ahLst/>
                <a:rect l="l" t="t" r="r" b="b"/>
                <a:pathLst>
                  <a:path w="587" h="18">
                    <a:moveTo>
                      <a:pt x="5" y="0"/>
                    </a:moveTo>
                    <a:lnTo>
                      <a:pt x="0" y="18"/>
                    </a:lnTo>
                    <a:lnTo>
                      <a:pt x="587" y="18"/>
                    </a:lnTo>
                    <a:lnTo>
                      <a:pt x="57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85320" y="4667760"/>
                <a:ext cx="421560" cy="66960"/>
              </a:xfrm>
              <a:custGeom>
                <a:avLst/>
                <a:gdLst/>
                <a:ahLst/>
                <a:rect l="l" t="t" r="r" b="b"/>
                <a:pathLst>
                  <a:path w="536" h="86">
                    <a:moveTo>
                      <a:pt x="45" y="0"/>
                    </a:moveTo>
                    <a:lnTo>
                      <a:pt x="530" y="0"/>
                    </a:lnTo>
                    <a:lnTo>
                      <a:pt x="536" y="86"/>
                    </a:lnTo>
                    <a:lnTo>
                      <a:pt x="485" y="85"/>
                    </a:lnTo>
                    <a:lnTo>
                      <a:pt x="485" y="75"/>
                    </a:lnTo>
                    <a:lnTo>
                      <a:pt x="457" y="75"/>
                    </a:lnTo>
                    <a:lnTo>
                      <a:pt x="456" y="85"/>
                    </a:lnTo>
                    <a:lnTo>
                      <a:pt x="98" y="85"/>
                    </a:lnTo>
                    <a:lnTo>
                      <a:pt x="100" y="75"/>
                    </a:lnTo>
                    <a:lnTo>
                      <a:pt x="68" y="76"/>
                    </a:lnTo>
                    <a:lnTo>
                      <a:pt x="64" y="85"/>
                    </a:lnTo>
                    <a:lnTo>
                      <a:pt x="0" y="8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414440" y="46677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09" h="40">
                    <a:moveTo>
                      <a:pt x="1" y="0"/>
                    </a:moveTo>
                    <a:lnTo>
                      <a:pt x="0" y="0"/>
                    </a:lnTo>
                    <a:lnTo>
                      <a:pt x="5" y="40"/>
                    </a:lnTo>
                    <a:lnTo>
                      <a:pt x="109" y="40"/>
                    </a:lnTo>
                    <a:lnTo>
                      <a:pt x="99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19120" y="4702320"/>
                <a:ext cx="89640" cy="32400"/>
              </a:xfrm>
              <a:custGeom>
                <a:avLst/>
                <a:gdLst/>
                <a:ahLst/>
                <a:rect l="l" t="t" r="r" b="b"/>
                <a:pathLst>
                  <a:path w="114" h="44">
                    <a:moveTo>
                      <a:pt x="35" y="0"/>
                    </a:moveTo>
                    <a:lnTo>
                      <a:pt x="35" y="14"/>
                    </a:lnTo>
                    <a:lnTo>
                      <a:pt x="0" y="14"/>
                    </a:lnTo>
                    <a:lnTo>
                      <a:pt x="5" y="44"/>
                    </a:lnTo>
                    <a:lnTo>
                      <a:pt x="114" y="44"/>
                    </a:lnTo>
                    <a:lnTo>
                      <a:pt x="105" y="13"/>
                    </a:lnTo>
                    <a:lnTo>
                      <a:pt x="69" y="13"/>
                    </a:lnTo>
                    <a:lnTo>
                      <a:pt x="69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501920" y="4669920"/>
                <a:ext cx="127800" cy="6480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26" y="85"/>
                    </a:lnTo>
                    <a:lnTo>
                      <a:pt x="163" y="85"/>
                    </a:lnTo>
                    <a:lnTo>
                      <a:pt x="1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84400" y="4407120"/>
                <a:ext cx="241560" cy="39240"/>
              </a:xfrm>
              <a:prstGeom prst="roundRect">
                <a:avLst>
                  <a:gd name="adj" fmla="val 238097"/>
                </a:avLst>
              </a:pr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485360" y="4374720"/>
                <a:ext cx="33120" cy="180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125360" y="4430160"/>
                <a:ext cx="362520" cy="29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125360" y="4455360"/>
                <a:ext cx="360000" cy="936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2827440" y="4149720"/>
              <a:ext cx="89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2"/>
            <a:stretch/>
          </p:blipFill>
          <p:spPr>
            <a:xfrm>
              <a:off x="4228200" y="4941720"/>
              <a:ext cx="8971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5698440" y="4149720"/>
              <a:ext cx="89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"/>
            <a:stretch/>
          </p:blipFill>
          <p:spPr>
            <a:xfrm>
              <a:off x="5278320" y="3213000"/>
              <a:ext cx="8971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5"/>
            <a:stretch/>
          </p:blipFill>
          <p:spPr>
            <a:xfrm>
              <a:off x="3457440" y="3213000"/>
              <a:ext cx="897120" cy="50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3" name=""/>
            <p:cNvGrpSpPr/>
            <p:nvPr/>
          </p:nvGrpSpPr>
          <p:grpSpPr>
            <a:xfrm>
              <a:off x="7800120" y="4005360"/>
              <a:ext cx="725400" cy="791640"/>
              <a:chOff x="7800120" y="4005360"/>
              <a:chExt cx="725400" cy="791640"/>
            </a:xfrm>
          </p:grpSpPr>
          <p:sp>
            <p:nvSpPr>
              <p:cNvPr id="664" name=""/>
              <p:cNvSpPr/>
              <p:nvPr/>
            </p:nvSpPr>
            <p:spPr>
              <a:xfrm>
                <a:off x="7904160" y="4466880"/>
                <a:ext cx="533520" cy="14796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18560" y="4527000"/>
                <a:ext cx="80280" cy="20880"/>
              </a:xfrm>
              <a:custGeom>
                <a:avLst/>
                <a:gdLst/>
                <a:ahLst/>
                <a:rect l="l" t="t" r="r" b="b"/>
                <a:pathLst>
                  <a:path w="101" h="28">
                    <a:moveTo>
                      <a:pt x="0" y="16"/>
                    </a:moveTo>
                    <a:lnTo>
                      <a:pt x="16" y="28"/>
                    </a:lnTo>
                    <a:lnTo>
                      <a:pt x="86" y="28"/>
                    </a:lnTo>
                    <a:lnTo>
                      <a:pt x="101" y="16"/>
                    </a:lnTo>
                    <a:lnTo>
                      <a:pt x="101" y="14"/>
                    </a:lnTo>
                    <a:lnTo>
                      <a:pt x="86" y="0"/>
                    </a:lnTo>
                    <a:lnTo>
                      <a:pt x="17" y="0"/>
                    </a:lnTo>
                    <a:lnTo>
                      <a:pt x="0" y="1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129520" y="4487760"/>
                <a:ext cx="196560" cy="108000"/>
              </a:xfrm>
              <a:custGeom>
                <a:avLst/>
                <a:gdLst/>
                <a:ahLst/>
                <a:rect l="l" t="t" r="r" b="b"/>
                <a:pathLst>
                  <a:path w="247" h="142">
                    <a:moveTo>
                      <a:pt x="0" y="123"/>
                    </a:moveTo>
                    <a:lnTo>
                      <a:pt x="19" y="142"/>
                    </a:lnTo>
                    <a:lnTo>
                      <a:pt x="229" y="142"/>
                    </a:lnTo>
                    <a:lnTo>
                      <a:pt x="247" y="122"/>
                    </a:lnTo>
                    <a:lnTo>
                      <a:pt x="247" y="22"/>
                    </a:lnTo>
                    <a:lnTo>
                      <a:pt x="243" y="8"/>
                    </a:lnTo>
                    <a:lnTo>
                      <a:pt x="228" y="0"/>
                    </a:lnTo>
                    <a:lnTo>
                      <a:pt x="19" y="0"/>
                    </a:lnTo>
                    <a:lnTo>
                      <a:pt x="0" y="17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920720" y="4005360"/>
                <a:ext cx="492840" cy="401760"/>
              </a:xfrm>
              <a:custGeom>
                <a:avLst/>
                <a:gdLst/>
                <a:ahLst/>
                <a:rect l="l" t="t" r="r" b="b"/>
                <a:pathLst>
                  <a:path w="623" h="521">
                    <a:moveTo>
                      <a:pt x="0" y="495"/>
                    </a:moveTo>
                    <a:lnTo>
                      <a:pt x="7" y="514"/>
                    </a:lnTo>
                    <a:lnTo>
                      <a:pt x="30" y="521"/>
                    </a:lnTo>
                    <a:lnTo>
                      <a:pt x="593" y="521"/>
                    </a:lnTo>
                    <a:lnTo>
                      <a:pt x="615" y="515"/>
                    </a:lnTo>
                    <a:lnTo>
                      <a:pt x="623" y="492"/>
                    </a:lnTo>
                    <a:lnTo>
                      <a:pt x="623" y="33"/>
                    </a:lnTo>
                    <a:lnTo>
                      <a:pt x="618" y="10"/>
                    </a:lnTo>
                    <a:lnTo>
                      <a:pt x="598" y="0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0" y="33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958880" y="4047120"/>
                <a:ext cx="423720" cy="309240"/>
              </a:xfrm>
              <a:custGeom>
                <a:avLst/>
                <a:gdLst/>
                <a:ahLst/>
                <a:rect l="l" t="t" r="r" b="b"/>
                <a:pathLst>
                  <a:path w="537" h="401">
                    <a:moveTo>
                      <a:pt x="0" y="379"/>
                    </a:moveTo>
                    <a:lnTo>
                      <a:pt x="6" y="394"/>
                    </a:lnTo>
                    <a:lnTo>
                      <a:pt x="26" y="401"/>
                    </a:lnTo>
                    <a:lnTo>
                      <a:pt x="512" y="401"/>
                    </a:lnTo>
                    <a:lnTo>
                      <a:pt x="530" y="396"/>
                    </a:lnTo>
                    <a:lnTo>
                      <a:pt x="537" y="378"/>
                    </a:lnTo>
                    <a:lnTo>
                      <a:pt x="537" y="25"/>
                    </a:lnTo>
                    <a:lnTo>
                      <a:pt x="534" y="9"/>
                    </a:lnTo>
                    <a:lnTo>
                      <a:pt x="516" y="1"/>
                    </a:lnTo>
                    <a:lnTo>
                      <a:pt x="33" y="0"/>
                    </a:lnTo>
                    <a:lnTo>
                      <a:pt x="11" y="2"/>
                    </a:lnTo>
                    <a:lnTo>
                      <a:pt x="0" y="1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972920" y="4060800"/>
                <a:ext cx="398160" cy="279360"/>
              </a:xfrm>
              <a:custGeom>
                <a:avLst/>
                <a:gdLst/>
                <a:ahLst/>
                <a:rect l="l" t="t" r="r" b="b"/>
                <a:pathLst>
                  <a:path w="504" h="362">
                    <a:moveTo>
                      <a:pt x="0" y="343"/>
                    </a:moveTo>
                    <a:lnTo>
                      <a:pt x="6" y="357"/>
                    </a:lnTo>
                    <a:lnTo>
                      <a:pt x="25" y="362"/>
                    </a:lnTo>
                    <a:lnTo>
                      <a:pt x="481" y="362"/>
                    </a:lnTo>
                    <a:lnTo>
                      <a:pt x="497" y="357"/>
                    </a:lnTo>
                    <a:lnTo>
                      <a:pt x="504" y="342"/>
                    </a:lnTo>
                    <a:lnTo>
                      <a:pt x="504" y="25"/>
                    </a:lnTo>
                    <a:lnTo>
                      <a:pt x="499" y="8"/>
                    </a:lnTo>
                    <a:lnTo>
                      <a:pt x="482" y="0"/>
                    </a:lnTo>
                    <a:lnTo>
                      <a:pt x="28" y="0"/>
                    </a:lnTo>
                    <a:lnTo>
                      <a:pt x="8" y="3"/>
                    </a:lnTo>
                    <a:lnTo>
                      <a:pt x="0" y="17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04160" y="4494600"/>
                <a:ext cx="2109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904160" y="4587120"/>
                <a:ext cx="21096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328960" y="448776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328960" y="458712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46080" y="4503960"/>
                <a:ext cx="165960" cy="46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167680" y="4531680"/>
                <a:ext cx="122760" cy="64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132040" y="4520160"/>
                <a:ext cx="19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132040" y="4550040"/>
                <a:ext cx="1915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349840" y="4517640"/>
                <a:ext cx="66600" cy="324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800120" y="4635360"/>
                <a:ext cx="725400" cy="140760"/>
              </a:xfrm>
              <a:custGeom>
                <a:avLst/>
                <a:gdLst/>
                <a:ahLst/>
                <a:rect l="l" t="t" r="r" b="b"/>
                <a:pathLst>
                  <a:path w="919" h="181">
                    <a:moveTo>
                      <a:pt x="94" y="0"/>
                    </a:moveTo>
                    <a:lnTo>
                      <a:pt x="96" y="0"/>
                    </a:lnTo>
                    <a:lnTo>
                      <a:pt x="841" y="0"/>
                    </a:lnTo>
                    <a:lnTo>
                      <a:pt x="919" y="181"/>
                    </a:lnTo>
                    <a:lnTo>
                      <a:pt x="0" y="18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800120" y="4776120"/>
                <a:ext cx="725400" cy="20880"/>
              </a:xfrm>
              <a:custGeom>
                <a:avLst/>
                <a:gdLst/>
                <a:ahLst/>
                <a:rect l="l" t="t" r="r" b="b"/>
                <a:pathLst>
                  <a:path w="919" h="27">
                    <a:moveTo>
                      <a:pt x="0" y="0"/>
                    </a:moveTo>
                    <a:lnTo>
                      <a:pt x="919" y="0"/>
                    </a:lnTo>
                    <a:lnTo>
                      <a:pt x="895" y="27"/>
                    </a:lnTo>
                    <a:lnTo>
                      <a:pt x="26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887600" y="4646880"/>
                <a:ext cx="464760" cy="14040"/>
              </a:xfrm>
              <a:custGeom>
                <a:avLst/>
                <a:gdLst/>
                <a:ahLst/>
                <a:rect l="l" t="t" r="r" b="b"/>
                <a:pathLst>
                  <a:path w="587" h="18">
                    <a:moveTo>
                      <a:pt x="5" y="0"/>
                    </a:moveTo>
                    <a:lnTo>
                      <a:pt x="0" y="18"/>
                    </a:lnTo>
                    <a:lnTo>
                      <a:pt x="587" y="18"/>
                    </a:lnTo>
                    <a:lnTo>
                      <a:pt x="57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849800" y="4667760"/>
                <a:ext cx="421560" cy="66960"/>
              </a:xfrm>
              <a:custGeom>
                <a:avLst/>
                <a:gdLst/>
                <a:ahLst/>
                <a:rect l="l" t="t" r="r" b="b"/>
                <a:pathLst>
                  <a:path w="536" h="86">
                    <a:moveTo>
                      <a:pt x="45" y="0"/>
                    </a:moveTo>
                    <a:lnTo>
                      <a:pt x="530" y="0"/>
                    </a:lnTo>
                    <a:lnTo>
                      <a:pt x="536" y="86"/>
                    </a:lnTo>
                    <a:lnTo>
                      <a:pt x="485" y="85"/>
                    </a:lnTo>
                    <a:lnTo>
                      <a:pt x="485" y="75"/>
                    </a:lnTo>
                    <a:lnTo>
                      <a:pt x="457" y="75"/>
                    </a:lnTo>
                    <a:lnTo>
                      <a:pt x="456" y="85"/>
                    </a:lnTo>
                    <a:lnTo>
                      <a:pt x="98" y="85"/>
                    </a:lnTo>
                    <a:lnTo>
                      <a:pt x="100" y="75"/>
                    </a:lnTo>
                    <a:lnTo>
                      <a:pt x="68" y="76"/>
                    </a:lnTo>
                    <a:lnTo>
                      <a:pt x="64" y="85"/>
                    </a:lnTo>
                    <a:lnTo>
                      <a:pt x="0" y="8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78920" y="46677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09" h="40">
                    <a:moveTo>
                      <a:pt x="1" y="0"/>
                    </a:moveTo>
                    <a:lnTo>
                      <a:pt x="0" y="0"/>
                    </a:lnTo>
                    <a:lnTo>
                      <a:pt x="5" y="40"/>
                    </a:lnTo>
                    <a:lnTo>
                      <a:pt x="109" y="40"/>
                    </a:lnTo>
                    <a:lnTo>
                      <a:pt x="99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283600" y="4702320"/>
                <a:ext cx="89640" cy="32400"/>
              </a:xfrm>
              <a:custGeom>
                <a:avLst/>
                <a:gdLst/>
                <a:ahLst/>
                <a:rect l="l" t="t" r="r" b="b"/>
                <a:pathLst>
                  <a:path w="114" h="44">
                    <a:moveTo>
                      <a:pt x="35" y="0"/>
                    </a:moveTo>
                    <a:lnTo>
                      <a:pt x="35" y="14"/>
                    </a:lnTo>
                    <a:lnTo>
                      <a:pt x="0" y="14"/>
                    </a:lnTo>
                    <a:lnTo>
                      <a:pt x="5" y="44"/>
                    </a:lnTo>
                    <a:lnTo>
                      <a:pt x="114" y="44"/>
                    </a:lnTo>
                    <a:lnTo>
                      <a:pt x="105" y="13"/>
                    </a:lnTo>
                    <a:lnTo>
                      <a:pt x="69" y="13"/>
                    </a:lnTo>
                    <a:lnTo>
                      <a:pt x="69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366400" y="4669920"/>
                <a:ext cx="127800" cy="6480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26" y="85"/>
                    </a:lnTo>
                    <a:lnTo>
                      <a:pt x="163" y="85"/>
                    </a:lnTo>
                    <a:lnTo>
                      <a:pt x="1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48880" y="4407120"/>
                <a:ext cx="241560" cy="39240"/>
              </a:xfrm>
              <a:prstGeom prst="roundRect">
                <a:avLst>
                  <a:gd name="adj" fmla="val 238097"/>
                </a:avLst>
              </a:pr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349840" y="4374720"/>
                <a:ext cx="33120" cy="180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989840" y="4430160"/>
                <a:ext cx="362520" cy="29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989840" y="4455360"/>
                <a:ext cx="360000" cy="936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565640" y="4437000"/>
              <a:ext cx="126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388320" y="3646440"/>
              <a:ext cx="4892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67680" y="4437000"/>
              <a:ext cx="203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59480" y="3646440"/>
              <a:ext cx="4892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7560" y="4654440"/>
              <a:ext cx="980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068080" y="4654080"/>
              <a:ext cx="9806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18320" y="3646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97680" y="3429000"/>
              <a:ext cx="98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40120" y="4437000"/>
              <a:ext cx="13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1440" y="349884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.110.192.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67760" y="350208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.130.188.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4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81040"/>
            <a:ext cx="5241960" cy="301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描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TCP/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协议与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OSI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参考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描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TCP/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协议栈各层次功能和原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描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地址分类和应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进行子网地址划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7652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100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分类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539640" y="1343160"/>
          <a:ext cx="7777440" cy="43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3160"/>
                    <a:ext cx="777744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特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382760" y="1125360"/>
            <a:ext cx="6476760" cy="5105160"/>
            <a:chOff x="1382760" y="1125360"/>
            <a:chExt cx="6476760" cy="5105160"/>
          </a:xfrm>
        </p:grpSpPr>
        <p:sp>
          <p:nvSpPr>
            <p:cNvPr id="706" name=""/>
            <p:cNvSpPr/>
            <p:nvPr/>
          </p:nvSpPr>
          <p:spPr>
            <a:xfrm>
              <a:off x="1382760" y="1125360"/>
              <a:ext cx="6476760" cy="51051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82760" y="173484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82760" y="264924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82760" y="356364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82760" y="440172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82760" y="524016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25760" y="112536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68760" y="112536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73520" y="112536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36840" y="126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网络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9960" y="1232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主机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63840" y="1232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地址类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64800" y="123228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用 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65080" y="3867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27000" y="383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89880" y="47520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0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89880" y="55900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52680" y="29232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58320" y="203904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0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52680" y="2008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58320" y="295344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86600" y="1962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网络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27880" y="1962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代表一个网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10280" y="2953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广播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86800" y="295344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特定网段的所有节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94440" y="3837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环回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75520" y="3837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环回测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10280" y="5544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广播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69960" y="55141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本网段所有节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18120" y="4675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所有网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64320" y="4477680"/>
              <a:ext cx="19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华为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Quidway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由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于指定默认路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无子网编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子网编址是指使用自然掩码，不对网段进行细分。比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网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2.16.0.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55.255.0.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掩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2608200" y="4013280"/>
          <a:ext cx="385596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8200" y="4013280"/>
                    <a:ext cx="38559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3894120" y="5262480"/>
          <a:ext cx="24415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4120" y="5262480"/>
                    <a:ext cx="2441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2057400" y="2514600"/>
          <a:ext cx="24433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2514600"/>
                    <a:ext cx="2443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4719600" y="2514600"/>
          <a:ext cx="24433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9600" y="2514600"/>
                    <a:ext cx="2443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7" name=""/>
          <p:cNvGrpSpPr/>
          <p:nvPr/>
        </p:nvGrpSpPr>
        <p:grpSpPr>
          <a:xfrm>
            <a:off x="2843280" y="3213000"/>
            <a:ext cx="745560" cy="792000"/>
            <a:chOff x="2843280" y="3213000"/>
            <a:chExt cx="745560" cy="792000"/>
          </a:xfrm>
        </p:grpSpPr>
        <p:sp>
          <p:nvSpPr>
            <p:cNvPr id="748" name=""/>
            <p:cNvSpPr/>
            <p:nvPr/>
          </p:nvSpPr>
          <p:spPr>
            <a:xfrm>
              <a:off x="2950200" y="3674520"/>
              <a:ext cx="54828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65320" y="3735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181680" y="369540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67480" y="321300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6720" y="3254760"/>
              <a:ext cx="43560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21120" y="326844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0200" y="3702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0200" y="3795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86520" y="369540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6520" y="3795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98960" y="3711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20920" y="3739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84560" y="3728160"/>
              <a:ext cx="19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4560" y="3758040"/>
              <a:ext cx="196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08120" y="372528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43280" y="3843360"/>
              <a:ext cx="74556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43280" y="3984120"/>
              <a:ext cx="74556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33280" y="3854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94400" y="3875760"/>
              <a:ext cx="43344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35400" y="3875760"/>
              <a:ext cx="8748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40080" y="3910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5400" y="3877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98880" y="361476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8120" y="358236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38040" y="3637800"/>
              <a:ext cx="37260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38040" y="366300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788000" y="4581360"/>
            <a:ext cx="745560" cy="792000"/>
            <a:chOff x="4788000" y="4581360"/>
            <a:chExt cx="745560" cy="792000"/>
          </a:xfrm>
        </p:grpSpPr>
        <p:sp>
          <p:nvSpPr>
            <p:cNvPr id="775" name=""/>
            <p:cNvSpPr/>
            <p:nvPr/>
          </p:nvSpPr>
          <p:spPr>
            <a:xfrm>
              <a:off x="4894920" y="5042880"/>
              <a:ext cx="54828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10040" y="510336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126400" y="506376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12200" y="458136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51440" y="4623120"/>
              <a:ext cx="43560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65840" y="463680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94920" y="507060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94920" y="516348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31240" y="506376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31240" y="516348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3680" y="508032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65640" y="510804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29280" y="5096520"/>
              <a:ext cx="19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29280" y="5126400"/>
              <a:ext cx="196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52840" y="509364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88000" y="5211720"/>
              <a:ext cx="74556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788000" y="5352480"/>
              <a:ext cx="74556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78000" y="522324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39120" y="5244120"/>
              <a:ext cx="43344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80120" y="5244120"/>
              <a:ext cx="8748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84800" y="527868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70120" y="524628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43600" y="498312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52840" y="495072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82760" y="5006160"/>
              <a:ext cx="37260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82760" y="503136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435640" y="3213000"/>
            <a:ext cx="745560" cy="792000"/>
            <a:chOff x="5435640" y="3213000"/>
            <a:chExt cx="745560" cy="792000"/>
          </a:xfrm>
        </p:grpSpPr>
        <p:sp>
          <p:nvSpPr>
            <p:cNvPr id="802" name=""/>
            <p:cNvSpPr/>
            <p:nvPr/>
          </p:nvSpPr>
          <p:spPr>
            <a:xfrm>
              <a:off x="5542560" y="3674520"/>
              <a:ext cx="54828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57680" y="3735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74040" y="369540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59840" y="321300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99080" y="3254760"/>
              <a:ext cx="43560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13480" y="326844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42560" y="3702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42560" y="3795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78880" y="369540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78880" y="3795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91320" y="3711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13280" y="3739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76920" y="3728160"/>
              <a:ext cx="19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76920" y="3758040"/>
              <a:ext cx="196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00480" y="372528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35640" y="3843360"/>
              <a:ext cx="74556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35640" y="3984120"/>
              <a:ext cx="74556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5640" y="3854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86760" y="3875760"/>
              <a:ext cx="43344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27760" y="3875760"/>
              <a:ext cx="8748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32440" y="3910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17760" y="3877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91240" y="361476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00480" y="358236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30400" y="3637800"/>
              <a:ext cx="37260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30400" y="366300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带子网编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619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网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2.1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3610080" y="2800440"/>
          <a:ext cx="3463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0080" y="2800440"/>
                    <a:ext cx="3463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1219320" y="4727520"/>
          <a:ext cx="3463920" cy="6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727520"/>
                    <a:ext cx="34639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 flipV="1">
            <a:off x="4518000" y="3763440"/>
            <a:ext cx="988920" cy="48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886480" y="5459760"/>
            <a:ext cx="3218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172.16.8.1 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，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83120" y="1522800"/>
            <a:ext cx="3156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172.16.4.1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，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6084720" y="1989000"/>
            <a:ext cx="745920" cy="792000"/>
            <a:chOff x="6084720" y="1989000"/>
            <a:chExt cx="745920" cy="792000"/>
          </a:xfrm>
        </p:grpSpPr>
        <p:sp>
          <p:nvSpPr>
            <p:cNvPr id="838" name=""/>
            <p:cNvSpPr/>
            <p:nvPr/>
          </p:nvSpPr>
          <p:spPr>
            <a:xfrm>
              <a:off x="6191640" y="2450520"/>
              <a:ext cx="54864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06760" y="2511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23480" y="247140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08920" y="198900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48160" y="2030760"/>
              <a:ext cx="43596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62560" y="204444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91640" y="2478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91640" y="2571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28320" y="247140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28320" y="2571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40400" y="2487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62720" y="2515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26000" y="2504160"/>
              <a:ext cx="199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26000" y="2534040"/>
              <a:ext cx="1972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49920" y="250128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84720" y="2619360"/>
              <a:ext cx="74592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84720" y="2760120"/>
              <a:ext cx="74592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74720" y="2630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35840" y="2651760"/>
              <a:ext cx="43380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76840" y="2651760"/>
              <a:ext cx="8784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81880" y="2686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67200" y="2653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40320" y="239076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9920" y="235836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79480" y="2413800"/>
              <a:ext cx="37296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79480" y="243900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1908000" y="5229360"/>
            <a:ext cx="745920" cy="791640"/>
            <a:chOff x="1908000" y="5229360"/>
            <a:chExt cx="745920" cy="791640"/>
          </a:xfrm>
        </p:grpSpPr>
        <p:sp>
          <p:nvSpPr>
            <p:cNvPr id="865" name=""/>
            <p:cNvSpPr/>
            <p:nvPr/>
          </p:nvSpPr>
          <p:spPr>
            <a:xfrm>
              <a:off x="2014920" y="5690880"/>
              <a:ext cx="54864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30040" y="5751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46760" y="5711760"/>
              <a:ext cx="201960" cy="10800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32200" y="522936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71440" y="5271120"/>
              <a:ext cx="43596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85840" y="528480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14920" y="571860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14920" y="5811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51600" y="571176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51600" y="5811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63680" y="5727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286000" y="5755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49280" y="5744160"/>
              <a:ext cx="199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49280" y="5774040"/>
              <a:ext cx="1972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73200" y="574164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08000" y="5859360"/>
              <a:ext cx="74592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08000" y="6000120"/>
              <a:ext cx="74592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98000" y="5870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959120" y="5891760"/>
              <a:ext cx="43380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00120" y="5891760"/>
              <a:ext cx="8784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05160" y="5926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90480" y="5893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63600" y="563112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73200" y="559872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02760" y="5654160"/>
              <a:ext cx="37296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102760" y="567936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1" name="" descr=""/>
          <p:cNvPicPr/>
          <p:nvPr/>
        </p:nvPicPr>
        <p:blipFill>
          <a:blip r:embed="rId5"/>
          <a:stretch/>
        </p:blipFill>
        <p:spPr>
          <a:xfrm>
            <a:off x="5435640" y="3284640"/>
            <a:ext cx="922320" cy="60804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922320" cy="6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子网规划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1720" y="2598840"/>
            <a:ext cx="163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01.222.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8200" y="2979720"/>
            <a:ext cx="19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92640" y="399888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541680" y="4054320"/>
            <a:ext cx="117360" cy="4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363840" y="4062240"/>
            <a:ext cx="11772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76600" y="406224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76600" y="4051440"/>
            <a:ext cx="12600" cy="2196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7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36840" y="4064040"/>
            <a:ext cx="1285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54560" y="4052880"/>
            <a:ext cx="10800" cy="22320"/>
          </a:xfrm>
          <a:custGeom>
            <a:avLst/>
            <a:gdLst/>
            <a:ahLst/>
            <a:rect l="l" t="t" r="r" b="b"/>
            <a:pathLst>
              <a:path w="29" h="54">
                <a:moveTo>
                  <a:pt x="0" y="54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21160" y="3984480"/>
            <a:ext cx="1440" cy="6192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10000" y="3984480"/>
            <a:ext cx="2232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21160" y="4086360"/>
            <a:ext cx="1440" cy="568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352680" y="2181240"/>
            <a:ext cx="954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322800" y="2244240"/>
            <a:ext cx="118800" cy="2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37000" y="2244600"/>
            <a:ext cx="12996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37000" y="2233440"/>
            <a:ext cx="1116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95800" y="2246400"/>
            <a:ext cx="12996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81560" y="2166840"/>
            <a:ext cx="1440" cy="604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470400" y="2166840"/>
            <a:ext cx="2196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293840" y="361800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1440" y="3675240"/>
            <a:ext cx="119160" cy="4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263600" y="3681360"/>
            <a:ext cx="11916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7800" y="368136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77800" y="3670200"/>
            <a:ext cx="1296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236600" y="3683160"/>
            <a:ext cx="1303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355760" y="3672000"/>
            <a:ext cx="11160" cy="2196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22360" y="3605040"/>
            <a:ext cx="1800" cy="590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11200" y="360504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58" y="27"/>
                </a:moveTo>
                <a:lnTo>
                  <a:pt x="29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11200" y="375120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0" y="0"/>
                </a:moveTo>
                <a:lnTo>
                  <a:pt x="29" y="27"/>
                </a:lnTo>
                <a:lnTo>
                  <a:pt x="58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90840" y="482436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3362400" y="4887720"/>
            <a:ext cx="119160" cy="2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576600" y="4888080"/>
            <a:ext cx="1285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76600" y="4876920"/>
            <a:ext cx="11160" cy="21960"/>
          </a:xfrm>
          <a:custGeom>
            <a:avLst/>
            <a:gdLst/>
            <a:ahLst/>
            <a:rect l="l" t="t" r="r" b="b"/>
            <a:pathLst>
              <a:path w="31" h="55">
                <a:moveTo>
                  <a:pt x="31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35400" y="4889520"/>
            <a:ext cx="12996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52760" y="4878360"/>
            <a:ext cx="12600" cy="2232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8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21160" y="4809960"/>
            <a:ext cx="1440" cy="604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08200" y="4809960"/>
            <a:ext cx="2412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21160" y="4911840"/>
            <a:ext cx="1440" cy="568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78240" y="3071880"/>
            <a:ext cx="950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25840" y="3129120"/>
            <a:ext cx="119160" cy="4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348000" y="3135240"/>
            <a:ext cx="11916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62200" y="313524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62200" y="3124080"/>
            <a:ext cx="1116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21000" y="3137040"/>
            <a:ext cx="1303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40160" y="3125880"/>
            <a:ext cx="11160" cy="2196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06760" y="3059280"/>
            <a:ext cx="1440" cy="586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95600" y="3059280"/>
            <a:ext cx="22320" cy="10800"/>
          </a:xfrm>
          <a:custGeom>
            <a:avLst/>
            <a:gdLst/>
            <a:ahLst/>
            <a:rect l="l" t="t" r="r" b="b"/>
            <a:pathLst>
              <a:path w="58" h="27">
                <a:moveTo>
                  <a:pt x="58" y="27"/>
                </a:moveTo>
                <a:lnTo>
                  <a:pt x="29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06760" y="3160800"/>
            <a:ext cx="1440" cy="55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95600" y="320508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0" y="0"/>
                </a:moveTo>
                <a:lnTo>
                  <a:pt x="29" y="27"/>
                </a:lnTo>
                <a:lnTo>
                  <a:pt x="58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79400" y="3798720"/>
            <a:ext cx="6829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361960" y="2344680"/>
            <a:ext cx="841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62320" y="3254400"/>
            <a:ext cx="868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62320" y="4211640"/>
            <a:ext cx="868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347560" y="4973760"/>
            <a:ext cx="896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884920" y="2903400"/>
            <a:ext cx="766440" cy="738000"/>
            <a:chOff x="5884920" y="2903400"/>
            <a:chExt cx="766440" cy="738000"/>
          </a:xfrm>
        </p:grpSpPr>
        <p:sp>
          <p:nvSpPr>
            <p:cNvPr id="949" name=""/>
            <p:cNvSpPr/>
            <p:nvPr/>
          </p:nvSpPr>
          <p:spPr>
            <a:xfrm>
              <a:off x="5996160" y="3333600"/>
              <a:ext cx="559440" cy="139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009480" y="3390840"/>
              <a:ext cx="84600" cy="1908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4"/>
                  </a:moveTo>
                  <a:lnTo>
                    <a:pt x="17" y="25"/>
                  </a:lnTo>
                  <a:lnTo>
                    <a:pt x="93" y="25"/>
                  </a:lnTo>
                  <a:lnTo>
                    <a:pt x="111" y="14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35200" y="3354120"/>
              <a:ext cx="204480" cy="101880"/>
            </a:xfrm>
            <a:custGeom>
              <a:avLst/>
              <a:gdLst/>
              <a:ahLst/>
              <a:rect l="l" t="t" r="r" b="b"/>
              <a:pathLst>
                <a:path w="270" h="128">
                  <a:moveTo>
                    <a:pt x="0" y="112"/>
                  </a:moveTo>
                  <a:lnTo>
                    <a:pt x="20" y="128"/>
                  </a:lnTo>
                  <a:lnTo>
                    <a:pt x="251" y="128"/>
                  </a:lnTo>
                  <a:lnTo>
                    <a:pt x="270" y="110"/>
                  </a:lnTo>
                  <a:lnTo>
                    <a:pt x="270" y="20"/>
                  </a:lnTo>
                  <a:lnTo>
                    <a:pt x="266" y="9"/>
                  </a:lnTo>
                  <a:lnTo>
                    <a:pt x="248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12000" y="2903400"/>
              <a:ext cx="520920" cy="374760"/>
            </a:xfrm>
            <a:custGeom>
              <a:avLst/>
              <a:gdLst/>
              <a:ahLst/>
              <a:rect l="l" t="t" r="r" b="b"/>
              <a:pathLst>
                <a:path w="686" h="474">
                  <a:moveTo>
                    <a:pt x="0" y="449"/>
                  </a:moveTo>
                  <a:lnTo>
                    <a:pt x="8" y="467"/>
                  </a:lnTo>
                  <a:lnTo>
                    <a:pt x="34" y="474"/>
                  </a:lnTo>
                  <a:lnTo>
                    <a:pt x="653" y="474"/>
                  </a:lnTo>
                  <a:lnTo>
                    <a:pt x="677" y="468"/>
                  </a:lnTo>
                  <a:lnTo>
                    <a:pt x="686" y="446"/>
                  </a:lnTo>
                  <a:lnTo>
                    <a:pt x="686" y="30"/>
                  </a:lnTo>
                  <a:lnTo>
                    <a:pt x="680" y="10"/>
                  </a:lnTo>
                  <a:lnTo>
                    <a:pt x="657" y="0"/>
                  </a:lnTo>
                  <a:lnTo>
                    <a:pt x="40" y="0"/>
                  </a:lnTo>
                  <a:lnTo>
                    <a:pt x="14" y="7"/>
                  </a:lnTo>
                  <a:lnTo>
                    <a:pt x="1" y="30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50880" y="2941560"/>
              <a:ext cx="447480" cy="288720"/>
            </a:xfrm>
            <a:custGeom>
              <a:avLst/>
              <a:gdLst/>
              <a:ahLst/>
              <a:rect l="l" t="t" r="r" b="b"/>
              <a:pathLst>
                <a:path w="591" h="363">
                  <a:moveTo>
                    <a:pt x="0" y="344"/>
                  </a:moveTo>
                  <a:lnTo>
                    <a:pt x="8" y="357"/>
                  </a:lnTo>
                  <a:lnTo>
                    <a:pt x="29" y="363"/>
                  </a:lnTo>
                  <a:lnTo>
                    <a:pt x="563" y="363"/>
                  </a:lnTo>
                  <a:lnTo>
                    <a:pt x="583" y="358"/>
                  </a:lnTo>
                  <a:lnTo>
                    <a:pt x="591" y="342"/>
                  </a:lnTo>
                  <a:lnTo>
                    <a:pt x="591" y="22"/>
                  </a:lnTo>
                  <a:lnTo>
                    <a:pt x="587" y="8"/>
                  </a:lnTo>
                  <a:lnTo>
                    <a:pt x="568" y="1"/>
                  </a:lnTo>
                  <a:lnTo>
                    <a:pt x="36" y="0"/>
                  </a:lnTo>
                  <a:lnTo>
                    <a:pt x="12" y="2"/>
                  </a:lnTo>
                  <a:lnTo>
                    <a:pt x="0" y="1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66720" y="2954160"/>
              <a:ext cx="420120" cy="262080"/>
            </a:xfrm>
            <a:custGeom>
              <a:avLst/>
              <a:gdLst/>
              <a:ahLst/>
              <a:rect l="l" t="t" r="r" b="b"/>
              <a:pathLst>
                <a:path w="553" h="329">
                  <a:moveTo>
                    <a:pt x="0" y="312"/>
                  </a:moveTo>
                  <a:lnTo>
                    <a:pt x="7" y="325"/>
                  </a:lnTo>
                  <a:lnTo>
                    <a:pt x="27" y="329"/>
                  </a:lnTo>
                  <a:lnTo>
                    <a:pt x="526" y="329"/>
                  </a:lnTo>
                  <a:lnTo>
                    <a:pt x="545" y="325"/>
                  </a:lnTo>
                  <a:lnTo>
                    <a:pt x="553" y="310"/>
                  </a:lnTo>
                  <a:lnTo>
                    <a:pt x="553" y="23"/>
                  </a:lnTo>
                  <a:lnTo>
                    <a:pt x="549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4"/>
                  </a:lnTo>
                  <a:lnTo>
                    <a:pt x="0" y="17"/>
                  </a:lnTo>
                  <a:lnTo>
                    <a:pt x="0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996160" y="3359160"/>
              <a:ext cx="2206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96160" y="3446280"/>
              <a:ext cx="2206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41840" y="3354120"/>
              <a:ext cx="115920" cy="5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41840" y="3446280"/>
              <a:ext cx="1137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48520" y="3368520"/>
              <a:ext cx="17712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71200" y="3394080"/>
              <a:ext cx="12996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35200" y="3384360"/>
              <a:ext cx="204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35200" y="3411360"/>
              <a:ext cx="20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64520" y="3381120"/>
              <a:ext cx="7056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84920" y="3492360"/>
              <a:ext cx="766440" cy="130320"/>
            </a:xfrm>
            <a:custGeom>
              <a:avLst/>
              <a:gdLst/>
              <a:ahLst/>
              <a:rect l="l" t="t" r="r" b="b"/>
              <a:pathLst>
                <a:path w="1010" h="165">
                  <a:moveTo>
                    <a:pt x="103" y="0"/>
                  </a:moveTo>
                  <a:lnTo>
                    <a:pt x="107" y="0"/>
                  </a:lnTo>
                  <a:lnTo>
                    <a:pt x="927" y="0"/>
                  </a:lnTo>
                  <a:lnTo>
                    <a:pt x="1010" y="165"/>
                  </a:lnTo>
                  <a:lnTo>
                    <a:pt x="0" y="164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84920" y="3622680"/>
              <a:ext cx="766440" cy="18720"/>
            </a:xfrm>
            <a:custGeom>
              <a:avLst/>
              <a:gdLst/>
              <a:ahLst/>
              <a:rect l="l" t="t" r="r" b="b"/>
              <a:pathLst>
                <a:path w="1011" h="25">
                  <a:moveTo>
                    <a:pt x="0" y="0"/>
                  </a:moveTo>
                  <a:lnTo>
                    <a:pt x="1011" y="1"/>
                  </a:lnTo>
                  <a:lnTo>
                    <a:pt x="985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78160" y="3503520"/>
              <a:ext cx="488880" cy="11160"/>
            </a:xfrm>
            <a:custGeom>
              <a:avLst/>
              <a:gdLst/>
              <a:ahLst/>
              <a:rect l="l" t="t" r="r" b="b"/>
              <a:pathLst>
                <a:path w="644" h="15">
                  <a:moveTo>
                    <a:pt x="5" y="0"/>
                  </a:moveTo>
                  <a:lnTo>
                    <a:pt x="0" y="15"/>
                  </a:lnTo>
                  <a:lnTo>
                    <a:pt x="644" y="15"/>
                  </a:lnTo>
                  <a:lnTo>
                    <a:pt x="63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36760" y="3522600"/>
              <a:ext cx="448200" cy="61920"/>
            </a:xfrm>
            <a:custGeom>
              <a:avLst/>
              <a:gdLst/>
              <a:ahLst/>
              <a:rect l="l" t="t" r="r" b="b"/>
              <a:pathLst>
                <a:path w="590" h="79">
                  <a:moveTo>
                    <a:pt x="49" y="0"/>
                  </a:moveTo>
                  <a:lnTo>
                    <a:pt x="583" y="0"/>
                  </a:lnTo>
                  <a:lnTo>
                    <a:pt x="590" y="79"/>
                  </a:lnTo>
                  <a:lnTo>
                    <a:pt x="533" y="78"/>
                  </a:lnTo>
                  <a:lnTo>
                    <a:pt x="533" y="69"/>
                  </a:lnTo>
                  <a:lnTo>
                    <a:pt x="502" y="69"/>
                  </a:lnTo>
                  <a:lnTo>
                    <a:pt x="499" y="78"/>
                  </a:lnTo>
                  <a:lnTo>
                    <a:pt x="107" y="78"/>
                  </a:lnTo>
                  <a:lnTo>
                    <a:pt x="110" y="69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89640" y="3522600"/>
              <a:ext cx="88560" cy="2700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1" y="0"/>
                  </a:moveTo>
                  <a:lnTo>
                    <a:pt x="0" y="0"/>
                  </a:lnTo>
                  <a:lnTo>
                    <a:pt x="6" y="36"/>
                  </a:lnTo>
                  <a:lnTo>
                    <a:pt x="119" y="36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94320" y="3554280"/>
              <a:ext cx="95400" cy="31680"/>
            </a:xfrm>
            <a:custGeom>
              <a:avLst/>
              <a:gdLst/>
              <a:ahLst/>
              <a:rect l="l" t="t" r="r" b="b"/>
              <a:pathLst>
                <a:path w="126" h="41">
                  <a:moveTo>
                    <a:pt x="39" y="0"/>
                  </a:moveTo>
                  <a:lnTo>
                    <a:pt x="39" y="13"/>
                  </a:lnTo>
                  <a:lnTo>
                    <a:pt x="0" y="13"/>
                  </a:lnTo>
                  <a:lnTo>
                    <a:pt x="6" y="41"/>
                  </a:lnTo>
                  <a:lnTo>
                    <a:pt x="126" y="41"/>
                  </a:lnTo>
                  <a:lnTo>
                    <a:pt x="115" y="12"/>
                  </a:lnTo>
                  <a:lnTo>
                    <a:pt x="77" y="12"/>
                  </a:lnTo>
                  <a:lnTo>
                    <a:pt x="7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83240" y="3524040"/>
              <a:ext cx="133920" cy="61920"/>
            </a:xfrm>
            <a:custGeom>
              <a:avLst/>
              <a:gdLst/>
              <a:ahLst/>
              <a:rect l="l" t="t" r="r" b="b"/>
              <a:pathLst>
                <a:path w="179" h="78">
                  <a:moveTo>
                    <a:pt x="0" y="0"/>
                  </a:moveTo>
                  <a:lnTo>
                    <a:pt x="28" y="78"/>
                  </a:lnTo>
                  <a:lnTo>
                    <a:pt x="179" y="78"/>
                  </a:ln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46280" y="3278160"/>
              <a:ext cx="256680" cy="3636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467040" y="3246120"/>
              <a:ext cx="3132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85080" y="3298680"/>
              <a:ext cx="381960" cy="2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85080" y="3324240"/>
              <a:ext cx="381960" cy="79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884920" y="2027160"/>
            <a:ext cx="739440" cy="739800"/>
            <a:chOff x="5884920" y="2027160"/>
            <a:chExt cx="739440" cy="739800"/>
          </a:xfrm>
        </p:grpSpPr>
        <p:sp>
          <p:nvSpPr>
            <p:cNvPr id="976" name=""/>
            <p:cNvSpPr/>
            <p:nvPr/>
          </p:nvSpPr>
          <p:spPr>
            <a:xfrm>
              <a:off x="5992200" y="2457360"/>
              <a:ext cx="541800" cy="139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05160" y="2514600"/>
              <a:ext cx="81360" cy="1908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3"/>
                  </a:moveTo>
                  <a:lnTo>
                    <a:pt x="18" y="25"/>
                  </a:lnTo>
                  <a:lnTo>
                    <a:pt x="94" y="25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22600" y="2478240"/>
              <a:ext cx="197280" cy="101520"/>
            </a:xfrm>
            <a:custGeom>
              <a:avLst/>
              <a:gdLst/>
              <a:ahLst/>
              <a:rect l="l" t="t" r="r" b="b"/>
              <a:pathLst>
                <a:path w="271" h="128">
                  <a:moveTo>
                    <a:pt x="0" y="111"/>
                  </a:moveTo>
                  <a:lnTo>
                    <a:pt x="20" y="128"/>
                  </a:lnTo>
                  <a:lnTo>
                    <a:pt x="252" y="128"/>
                  </a:lnTo>
                  <a:lnTo>
                    <a:pt x="271" y="110"/>
                  </a:lnTo>
                  <a:lnTo>
                    <a:pt x="271" y="20"/>
                  </a:lnTo>
                  <a:lnTo>
                    <a:pt x="266" y="8"/>
                  </a:lnTo>
                  <a:lnTo>
                    <a:pt x="249" y="0"/>
                  </a:lnTo>
                  <a:lnTo>
                    <a:pt x="20" y="0"/>
                  </a:lnTo>
                  <a:lnTo>
                    <a:pt x="0" y="1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07680" y="2027160"/>
              <a:ext cx="502560" cy="376200"/>
            </a:xfrm>
            <a:custGeom>
              <a:avLst/>
              <a:gdLst/>
              <a:ahLst/>
              <a:rect l="l" t="t" r="r" b="b"/>
              <a:pathLst>
                <a:path w="686" h="473">
                  <a:moveTo>
                    <a:pt x="0" y="448"/>
                  </a:moveTo>
                  <a:lnTo>
                    <a:pt x="9" y="466"/>
                  </a:lnTo>
                  <a:lnTo>
                    <a:pt x="35" y="473"/>
                  </a:lnTo>
                  <a:lnTo>
                    <a:pt x="653" y="473"/>
                  </a:lnTo>
                  <a:lnTo>
                    <a:pt x="678" y="467"/>
                  </a:lnTo>
                  <a:lnTo>
                    <a:pt x="686" y="446"/>
                  </a:lnTo>
                  <a:lnTo>
                    <a:pt x="686" y="29"/>
                  </a:lnTo>
                  <a:lnTo>
                    <a:pt x="681" y="9"/>
                  </a:lnTo>
                  <a:lnTo>
                    <a:pt x="658" y="0"/>
                  </a:lnTo>
                  <a:lnTo>
                    <a:pt x="41" y="0"/>
                  </a:lnTo>
                  <a:lnTo>
                    <a:pt x="15" y="7"/>
                  </a:lnTo>
                  <a:lnTo>
                    <a:pt x="2" y="29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46920" y="2065320"/>
              <a:ext cx="432360" cy="289080"/>
            </a:xfrm>
            <a:custGeom>
              <a:avLst/>
              <a:gdLst/>
              <a:ahLst/>
              <a:rect l="l" t="t" r="r" b="b"/>
              <a:pathLst>
                <a:path w="591" h="364">
                  <a:moveTo>
                    <a:pt x="0" y="345"/>
                  </a:moveTo>
                  <a:lnTo>
                    <a:pt x="7" y="358"/>
                  </a:lnTo>
                  <a:lnTo>
                    <a:pt x="29" y="364"/>
                  </a:lnTo>
                  <a:lnTo>
                    <a:pt x="562" y="364"/>
                  </a:lnTo>
                  <a:lnTo>
                    <a:pt x="583" y="359"/>
                  </a:lnTo>
                  <a:lnTo>
                    <a:pt x="591" y="342"/>
                  </a:lnTo>
                  <a:lnTo>
                    <a:pt x="591" y="23"/>
                  </a:lnTo>
                  <a:lnTo>
                    <a:pt x="587" y="8"/>
                  </a:lnTo>
                  <a:lnTo>
                    <a:pt x="568" y="1"/>
                  </a:lnTo>
                  <a:lnTo>
                    <a:pt x="36" y="0"/>
                  </a:lnTo>
                  <a:lnTo>
                    <a:pt x="12" y="3"/>
                  </a:lnTo>
                  <a:lnTo>
                    <a:pt x="0" y="1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60600" y="2077920"/>
              <a:ext cx="405360" cy="262080"/>
            </a:xfrm>
            <a:custGeom>
              <a:avLst/>
              <a:gdLst/>
              <a:ahLst/>
              <a:rect l="l" t="t" r="r" b="b"/>
              <a:pathLst>
                <a:path w="554" h="329">
                  <a:moveTo>
                    <a:pt x="0" y="311"/>
                  </a:moveTo>
                  <a:lnTo>
                    <a:pt x="7" y="324"/>
                  </a:lnTo>
                  <a:lnTo>
                    <a:pt x="28" y="329"/>
                  </a:lnTo>
                  <a:lnTo>
                    <a:pt x="527" y="329"/>
                  </a:lnTo>
                  <a:lnTo>
                    <a:pt x="545" y="324"/>
                  </a:lnTo>
                  <a:lnTo>
                    <a:pt x="554" y="310"/>
                  </a:lnTo>
                  <a:lnTo>
                    <a:pt x="554" y="22"/>
                  </a:lnTo>
                  <a:lnTo>
                    <a:pt x="550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3"/>
                  </a:lnTo>
                  <a:lnTo>
                    <a:pt x="0" y="16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92200" y="2482920"/>
              <a:ext cx="2127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92200" y="2570040"/>
              <a:ext cx="2127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22400" y="2478240"/>
              <a:ext cx="1119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22400" y="257004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35560" y="2492280"/>
              <a:ext cx="17100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60040" y="2517840"/>
              <a:ext cx="12492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22600" y="2508120"/>
              <a:ext cx="19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222600" y="2535120"/>
              <a:ext cx="194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44360" y="2506680"/>
              <a:ext cx="6804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84920" y="2616120"/>
              <a:ext cx="739440" cy="131760"/>
            </a:xfrm>
            <a:custGeom>
              <a:avLst/>
              <a:gdLst/>
              <a:ahLst/>
              <a:rect l="l" t="t" r="r" b="b"/>
              <a:pathLst>
                <a:path w="1010" h="164">
                  <a:moveTo>
                    <a:pt x="102" y="0"/>
                  </a:moveTo>
                  <a:lnTo>
                    <a:pt x="106" y="0"/>
                  </a:lnTo>
                  <a:lnTo>
                    <a:pt x="926" y="0"/>
                  </a:lnTo>
                  <a:lnTo>
                    <a:pt x="1010" y="164"/>
                  </a:lnTo>
                  <a:lnTo>
                    <a:pt x="0" y="16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84920" y="2746440"/>
              <a:ext cx="739440" cy="20520"/>
            </a:xfrm>
            <a:custGeom>
              <a:avLst/>
              <a:gdLst/>
              <a:ahLst/>
              <a:rect l="l" t="t" r="r" b="b"/>
              <a:pathLst>
                <a:path w="1011" h="25">
                  <a:moveTo>
                    <a:pt x="0" y="0"/>
                  </a:moveTo>
                  <a:lnTo>
                    <a:pt x="1011" y="1"/>
                  </a:lnTo>
                  <a:lnTo>
                    <a:pt x="985" y="25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74920" y="2627280"/>
              <a:ext cx="471600" cy="12600"/>
            </a:xfrm>
            <a:custGeom>
              <a:avLst/>
              <a:gdLst/>
              <a:ahLst/>
              <a:rect l="l" t="t" r="r" b="b"/>
              <a:pathLst>
                <a:path w="645" h="15">
                  <a:moveTo>
                    <a:pt x="6" y="0"/>
                  </a:moveTo>
                  <a:lnTo>
                    <a:pt x="0" y="15"/>
                  </a:lnTo>
                  <a:lnTo>
                    <a:pt x="645" y="15"/>
                  </a:lnTo>
                  <a:lnTo>
                    <a:pt x="63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34960" y="2646360"/>
              <a:ext cx="432360" cy="61920"/>
            </a:xfrm>
            <a:custGeom>
              <a:avLst/>
              <a:gdLst/>
              <a:ahLst/>
              <a:rect l="l" t="t" r="r" b="b"/>
              <a:pathLst>
                <a:path w="590" h="79">
                  <a:moveTo>
                    <a:pt x="49" y="0"/>
                  </a:moveTo>
                  <a:lnTo>
                    <a:pt x="583" y="0"/>
                  </a:lnTo>
                  <a:lnTo>
                    <a:pt x="590" y="79"/>
                  </a:lnTo>
                  <a:lnTo>
                    <a:pt x="532" y="78"/>
                  </a:lnTo>
                  <a:lnTo>
                    <a:pt x="532" y="68"/>
                  </a:lnTo>
                  <a:lnTo>
                    <a:pt x="502" y="68"/>
                  </a:lnTo>
                  <a:lnTo>
                    <a:pt x="499" y="78"/>
                  </a:lnTo>
                  <a:lnTo>
                    <a:pt x="107" y="78"/>
                  </a:lnTo>
                  <a:lnTo>
                    <a:pt x="109" y="68"/>
                  </a:lnTo>
                  <a:lnTo>
                    <a:pt x="73" y="69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72000" y="2646360"/>
              <a:ext cx="87480" cy="2844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2" y="0"/>
                  </a:moveTo>
                  <a:lnTo>
                    <a:pt x="0" y="0"/>
                  </a:lnTo>
                  <a:lnTo>
                    <a:pt x="6" y="35"/>
                  </a:lnTo>
                  <a:lnTo>
                    <a:pt x="120" y="35"/>
                  </a:lnTo>
                  <a:lnTo>
                    <a:pt x="11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78480" y="2678040"/>
              <a:ext cx="90000" cy="31680"/>
            </a:xfrm>
            <a:custGeom>
              <a:avLst/>
              <a:gdLst/>
              <a:ahLst/>
              <a:rect l="l" t="t" r="r" b="b"/>
              <a:pathLst>
                <a:path w="125" h="40">
                  <a:moveTo>
                    <a:pt x="39" y="0"/>
                  </a:moveTo>
                  <a:lnTo>
                    <a:pt x="39" y="13"/>
                  </a:lnTo>
                  <a:lnTo>
                    <a:pt x="0" y="13"/>
                  </a:lnTo>
                  <a:lnTo>
                    <a:pt x="6" y="40"/>
                  </a:lnTo>
                  <a:lnTo>
                    <a:pt x="125" y="40"/>
                  </a:lnTo>
                  <a:lnTo>
                    <a:pt x="115" y="12"/>
                  </a:lnTo>
                  <a:lnTo>
                    <a:pt x="76" y="12"/>
                  </a:lnTo>
                  <a:lnTo>
                    <a:pt x="76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462000" y="2647800"/>
              <a:ext cx="129240" cy="61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0"/>
                  </a:moveTo>
                  <a:lnTo>
                    <a:pt x="27" y="78"/>
                  </a:lnTo>
                  <a:lnTo>
                    <a:pt x="178" y="78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37280" y="2401920"/>
              <a:ext cx="250200" cy="3816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46880" y="2370240"/>
              <a:ext cx="3276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79680" y="2424240"/>
              <a:ext cx="366840" cy="27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79680" y="2449440"/>
              <a:ext cx="366840" cy="6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884920" y="3794040"/>
            <a:ext cx="752040" cy="739800"/>
            <a:chOff x="5884920" y="3794040"/>
            <a:chExt cx="752040" cy="739800"/>
          </a:xfrm>
        </p:grpSpPr>
        <p:sp>
          <p:nvSpPr>
            <p:cNvPr id="1003" name=""/>
            <p:cNvSpPr/>
            <p:nvPr/>
          </p:nvSpPr>
          <p:spPr>
            <a:xfrm>
              <a:off x="5991840" y="4224240"/>
              <a:ext cx="552960" cy="1414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007680" y="4282920"/>
              <a:ext cx="82440" cy="1908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3"/>
                  </a:moveTo>
                  <a:lnTo>
                    <a:pt x="17" y="25"/>
                  </a:lnTo>
                  <a:lnTo>
                    <a:pt x="93" y="25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26920" y="4246560"/>
              <a:ext cx="201600" cy="100080"/>
            </a:xfrm>
            <a:custGeom>
              <a:avLst/>
              <a:gdLst/>
              <a:ahLst/>
              <a:rect l="l" t="t" r="r" b="b"/>
              <a:pathLst>
                <a:path w="270" h="128">
                  <a:moveTo>
                    <a:pt x="0" y="111"/>
                  </a:moveTo>
                  <a:lnTo>
                    <a:pt x="20" y="128"/>
                  </a:lnTo>
                  <a:lnTo>
                    <a:pt x="251" y="128"/>
                  </a:lnTo>
                  <a:lnTo>
                    <a:pt x="270" y="110"/>
                  </a:lnTo>
                  <a:lnTo>
                    <a:pt x="270" y="20"/>
                  </a:lnTo>
                  <a:lnTo>
                    <a:pt x="266" y="8"/>
                  </a:lnTo>
                  <a:lnTo>
                    <a:pt x="248" y="0"/>
                  </a:lnTo>
                  <a:lnTo>
                    <a:pt x="20" y="0"/>
                  </a:lnTo>
                  <a:lnTo>
                    <a:pt x="0" y="1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09840" y="3794040"/>
              <a:ext cx="510840" cy="376200"/>
            </a:xfrm>
            <a:custGeom>
              <a:avLst/>
              <a:gdLst/>
              <a:ahLst/>
              <a:rect l="l" t="t" r="r" b="b"/>
              <a:pathLst>
                <a:path w="686" h="473">
                  <a:moveTo>
                    <a:pt x="0" y="448"/>
                  </a:moveTo>
                  <a:lnTo>
                    <a:pt x="8" y="466"/>
                  </a:lnTo>
                  <a:lnTo>
                    <a:pt x="34" y="473"/>
                  </a:lnTo>
                  <a:lnTo>
                    <a:pt x="653" y="473"/>
                  </a:lnTo>
                  <a:lnTo>
                    <a:pt x="677" y="467"/>
                  </a:lnTo>
                  <a:lnTo>
                    <a:pt x="686" y="446"/>
                  </a:lnTo>
                  <a:lnTo>
                    <a:pt x="686" y="30"/>
                  </a:lnTo>
                  <a:lnTo>
                    <a:pt x="680" y="9"/>
                  </a:lnTo>
                  <a:lnTo>
                    <a:pt x="657" y="0"/>
                  </a:lnTo>
                  <a:lnTo>
                    <a:pt x="40" y="0"/>
                  </a:lnTo>
                  <a:lnTo>
                    <a:pt x="14" y="7"/>
                  </a:lnTo>
                  <a:lnTo>
                    <a:pt x="1" y="30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47640" y="3833640"/>
              <a:ext cx="441360" cy="287640"/>
            </a:xfrm>
            <a:custGeom>
              <a:avLst/>
              <a:gdLst/>
              <a:ahLst/>
              <a:rect l="l" t="t" r="r" b="b"/>
              <a:pathLst>
                <a:path w="591" h="364">
                  <a:moveTo>
                    <a:pt x="0" y="345"/>
                  </a:moveTo>
                  <a:lnTo>
                    <a:pt x="7" y="358"/>
                  </a:lnTo>
                  <a:lnTo>
                    <a:pt x="28" y="364"/>
                  </a:lnTo>
                  <a:lnTo>
                    <a:pt x="562" y="364"/>
                  </a:lnTo>
                  <a:lnTo>
                    <a:pt x="582" y="359"/>
                  </a:lnTo>
                  <a:lnTo>
                    <a:pt x="591" y="343"/>
                  </a:lnTo>
                  <a:lnTo>
                    <a:pt x="591" y="23"/>
                  </a:lnTo>
                  <a:lnTo>
                    <a:pt x="586" y="9"/>
                  </a:lnTo>
                  <a:lnTo>
                    <a:pt x="568" y="2"/>
                  </a:lnTo>
                  <a:lnTo>
                    <a:pt x="35" y="0"/>
                  </a:lnTo>
                  <a:lnTo>
                    <a:pt x="11" y="3"/>
                  </a:lnTo>
                  <a:lnTo>
                    <a:pt x="0" y="1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63480" y="3846600"/>
              <a:ext cx="412200" cy="261720"/>
            </a:xfrm>
            <a:custGeom>
              <a:avLst/>
              <a:gdLst/>
              <a:ahLst/>
              <a:rect l="l" t="t" r="r" b="b"/>
              <a:pathLst>
                <a:path w="553" h="329">
                  <a:moveTo>
                    <a:pt x="0" y="311"/>
                  </a:moveTo>
                  <a:lnTo>
                    <a:pt x="7" y="324"/>
                  </a:lnTo>
                  <a:lnTo>
                    <a:pt x="27" y="329"/>
                  </a:lnTo>
                  <a:lnTo>
                    <a:pt x="526" y="329"/>
                  </a:lnTo>
                  <a:lnTo>
                    <a:pt x="545" y="324"/>
                  </a:lnTo>
                  <a:lnTo>
                    <a:pt x="553" y="310"/>
                  </a:lnTo>
                  <a:lnTo>
                    <a:pt x="553" y="23"/>
                  </a:lnTo>
                  <a:lnTo>
                    <a:pt x="549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4"/>
                  </a:lnTo>
                  <a:lnTo>
                    <a:pt x="0" y="17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91840" y="4251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91840" y="4338720"/>
              <a:ext cx="217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31400" y="4246560"/>
              <a:ext cx="1137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31400" y="4338720"/>
              <a:ext cx="11376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42760" y="4260960"/>
              <a:ext cx="172440" cy="61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65080" y="4286160"/>
              <a:ext cx="12780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26920" y="4276800"/>
              <a:ext cx="20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6920" y="4303800"/>
              <a:ext cx="20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53720" y="4273560"/>
              <a:ext cx="6876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84920" y="4384800"/>
              <a:ext cx="752040" cy="129960"/>
            </a:xfrm>
            <a:custGeom>
              <a:avLst/>
              <a:gdLst/>
              <a:ahLst/>
              <a:rect l="l" t="t" r="r" b="b"/>
              <a:pathLst>
                <a:path w="1009" h="165">
                  <a:moveTo>
                    <a:pt x="102" y="0"/>
                  </a:moveTo>
                  <a:lnTo>
                    <a:pt x="106" y="0"/>
                  </a:lnTo>
                  <a:lnTo>
                    <a:pt x="926" y="0"/>
                  </a:lnTo>
                  <a:lnTo>
                    <a:pt x="1009" y="165"/>
                  </a:lnTo>
                  <a:lnTo>
                    <a:pt x="0" y="16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84920" y="4514760"/>
              <a:ext cx="752040" cy="19080"/>
            </a:xfrm>
            <a:custGeom>
              <a:avLst/>
              <a:gdLst/>
              <a:ahLst/>
              <a:rect l="l" t="t" r="r" b="b"/>
              <a:pathLst>
                <a:path w="1010" h="25">
                  <a:moveTo>
                    <a:pt x="0" y="0"/>
                  </a:moveTo>
                  <a:lnTo>
                    <a:pt x="1010" y="2"/>
                  </a:lnTo>
                  <a:lnTo>
                    <a:pt x="985" y="25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74200" y="4395600"/>
              <a:ext cx="481320" cy="11160"/>
            </a:xfrm>
            <a:custGeom>
              <a:avLst/>
              <a:gdLst/>
              <a:ahLst/>
              <a:rect l="l" t="t" r="r" b="b"/>
              <a:pathLst>
                <a:path w="644" h="16">
                  <a:moveTo>
                    <a:pt x="6" y="0"/>
                  </a:moveTo>
                  <a:lnTo>
                    <a:pt x="0" y="16"/>
                  </a:lnTo>
                  <a:lnTo>
                    <a:pt x="644" y="16"/>
                  </a:lnTo>
                  <a:lnTo>
                    <a:pt x="63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36040" y="4413240"/>
              <a:ext cx="438840" cy="63360"/>
            </a:xfrm>
            <a:custGeom>
              <a:avLst/>
              <a:gdLst/>
              <a:ahLst/>
              <a:rect l="l" t="t" r="r" b="b"/>
              <a:pathLst>
                <a:path w="589" h="79">
                  <a:moveTo>
                    <a:pt x="48" y="0"/>
                  </a:moveTo>
                  <a:lnTo>
                    <a:pt x="582" y="0"/>
                  </a:lnTo>
                  <a:lnTo>
                    <a:pt x="589" y="79"/>
                  </a:lnTo>
                  <a:lnTo>
                    <a:pt x="532" y="78"/>
                  </a:lnTo>
                  <a:lnTo>
                    <a:pt x="532" y="69"/>
                  </a:lnTo>
                  <a:lnTo>
                    <a:pt x="501" y="69"/>
                  </a:lnTo>
                  <a:lnTo>
                    <a:pt x="499" y="78"/>
                  </a:lnTo>
                  <a:lnTo>
                    <a:pt x="106" y="78"/>
                  </a:lnTo>
                  <a:lnTo>
                    <a:pt x="109" y="69"/>
                  </a:lnTo>
                  <a:lnTo>
                    <a:pt x="73" y="70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379560" y="4413240"/>
              <a:ext cx="89280" cy="2844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" y="0"/>
                  </a:moveTo>
                  <a:lnTo>
                    <a:pt x="0" y="0"/>
                  </a:lnTo>
                  <a:lnTo>
                    <a:pt x="6" y="35"/>
                  </a:lnTo>
                  <a:lnTo>
                    <a:pt x="119" y="35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86040" y="4446720"/>
              <a:ext cx="94320" cy="31680"/>
            </a:xfrm>
            <a:custGeom>
              <a:avLst/>
              <a:gdLst/>
              <a:ahLst/>
              <a:rect l="l" t="t" r="r" b="b"/>
              <a:pathLst>
                <a:path w="125" h="40">
                  <a:moveTo>
                    <a:pt x="38" y="0"/>
                  </a:moveTo>
                  <a:lnTo>
                    <a:pt x="38" y="13"/>
                  </a:lnTo>
                  <a:lnTo>
                    <a:pt x="0" y="13"/>
                  </a:lnTo>
                  <a:lnTo>
                    <a:pt x="5" y="40"/>
                  </a:lnTo>
                  <a:lnTo>
                    <a:pt x="125" y="40"/>
                  </a:lnTo>
                  <a:lnTo>
                    <a:pt x="115" y="12"/>
                  </a:lnTo>
                  <a:lnTo>
                    <a:pt x="76" y="12"/>
                  </a:lnTo>
                  <a:lnTo>
                    <a:pt x="76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71360" y="4416480"/>
              <a:ext cx="133920" cy="61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0"/>
                  </a:moveTo>
                  <a:lnTo>
                    <a:pt x="27" y="78"/>
                  </a:lnTo>
                  <a:lnTo>
                    <a:pt x="178" y="78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142320" y="4170240"/>
              <a:ext cx="252720" cy="3672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55520" y="4138560"/>
              <a:ext cx="3348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81840" y="4191120"/>
              <a:ext cx="373680" cy="2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081840" y="4216320"/>
              <a:ext cx="373680" cy="79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884920" y="4672080"/>
            <a:ext cx="753480" cy="738000"/>
            <a:chOff x="5884920" y="4672080"/>
            <a:chExt cx="753480" cy="738000"/>
          </a:xfrm>
        </p:grpSpPr>
        <p:sp>
          <p:nvSpPr>
            <p:cNvPr id="1030" name=""/>
            <p:cNvSpPr/>
            <p:nvPr/>
          </p:nvSpPr>
          <p:spPr>
            <a:xfrm>
              <a:off x="5991840" y="5102280"/>
              <a:ext cx="552240" cy="139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07320" y="5159520"/>
              <a:ext cx="82440" cy="1872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3"/>
                  </a:moveTo>
                  <a:lnTo>
                    <a:pt x="18" y="25"/>
                  </a:lnTo>
                  <a:lnTo>
                    <a:pt x="94" y="25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226560" y="5122800"/>
              <a:ext cx="203760" cy="101520"/>
            </a:xfrm>
            <a:custGeom>
              <a:avLst/>
              <a:gdLst/>
              <a:ahLst/>
              <a:rect l="l" t="t" r="r" b="b"/>
              <a:pathLst>
                <a:path w="271" h="128">
                  <a:moveTo>
                    <a:pt x="0" y="111"/>
                  </a:moveTo>
                  <a:lnTo>
                    <a:pt x="20" y="128"/>
                  </a:lnTo>
                  <a:lnTo>
                    <a:pt x="252" y="128"/>
                  </a:lnTo>
                  <a:lnTo>
                    <a:pt x="271" y="110"/>
                  </a:lnTo>
                  <a:lnTo>
                    <a:pt x="271" y="20"/>
                  </a:lnTo>
                  <a:lnTo>
                    <a:pt x="266" y="8"/>
                  </a:lnTo>
                  <a:lnTo>
                    <a:pt x="249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09480" y="4672080"/>
              <a:ext cx="511920" cy="374400"/>
            </a:xfrm>
            <a:custGeom>
              <a:avLst/>
              <a:gdLst/>
              <a:ahLst/>
              <a:rect l="l" t="t" r="r" b="b"/>
              <a:pathLst>
                <a:path w="686" h="474">
                  <a:moveTo>
                    <a:pt x="0" y="449"/>
                  </a:moveTo>
                  <a:lnTo>
                    <a:pt x="9" y="466"/>
                  </a:lnTo>
                  <a:lnTo>
                    <a:pt x="35" y="474"/>
                  </a:lnTo>
                  <a:lnTo>
                    <a:pt x="653" y="474"/>
                  </a:lnTo>
                  <a:lnTo>
                    <a:pt x="678" y="468"/>
                  </a:lnTo>
                  <a:lnTo>
                    <a:pt x="686" y="446"/>
                  </a:lnTo>
                  <a:lnTo>
                    <a:pt x="686" y="30"/>
                  </a:lnTo>
                  <a:lnTo>
                    <a:pt x="680" y="10"/>
                  </a:lnTo>
                  <a:lnTo>
                    <a:pt x="657" y="0"/>
                  </a:lnTo>
                  <a:lnTo>
                    <a:pt x="40" y="0"/>
                  </a:lnTo>
                  <a:lnTo>
                    <a:pt x="15" y="7"/>
                  </a:lnTo>
                  <a:lnTo>
                    <a:pt x="2" y="30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63120" y="4722840"/>
              <a:ext cx="413640" cy="261720"/>
            </a:xfrm>
            <a:custGeom>
              <a:avLst/>
              <a:gdLst/>
              <a:ahLst/>
              <a:rect l="l" t="t" r="r" b="b"/>
              <a:pathLst>
                <a:path w="554" h="329">
                  <a:moveTo>
                    <a:pt x="0" y="311"/>
                  </a:moveTo>
                  <a:lnTo>
                    <a:pt x="7" y="325"/>
                  </a:lnTo>
                  <a:lnTo>
                    <a:pt x="27" y="329"/>
                  </a:lnTo>
                  <a:lnTo>
                    <a:pt x="526" y="329"/>
                  </a:lnTo>
                  <a:lnTo>
                    <a:pt x="545" y="325"/>
                  </a:lnTo>
                  <a:lnTo>
                    <a:pt x="554" y="310"/>
                  </a:lnTo>
                  <a:lnTo>
                    <a:pt x="554" y="23"/>
                  </a:lnTo>
                  <a:lnTo>
                    <a:pt x="549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4"/>
                  </a:lnTo>
                  <a:lnTo>
                    <a:pt x="0" y="17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91840" y="5127480"/>
              <a:ext cx="218880" cy="5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91840" y="5214960"/>
              <a:ext cx="218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2480" y="5122800"/>
              <a:ext cx="1137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32480" y="5214960"/>
              <a:ext cx="11124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42400" y="5137200"/>
              <a:ext cx="174240" cy="61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64720" y="5162400"/>
              <a:ext cx="12780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226560" y="5153040"/>
              <a:ext cx="20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26560" y="5180040"/>
              <a:ext cx="20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54800" y="5149800"/>
              <a:ext cx="6948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884920" y="5261040"/>
              <a:ext cx="750960" cy="129960"/>
            </a:xfrm>
            <a:custGeom>
              <a:avLst/>
              <a:gdLst/>
              <a:ahLst/>
              <a:rect l="l" t="t" r="r" b="b"/>
              <a:pathLst>
                <a:path w="1009" h="165">
                  <a:moveTo>
                    <a:pt x="102" y="0"/>
                  </a:moveTo>
                  <a:lnTo>
                    <a:pt x="106" y="0"/>
                  </a:lnTo>
                  <a:lnTo>
                    <a:pt x="926" y="0"/>
                  </a:lnTo>
                  <a:lnTo>
                    <a:pt x="1009" y="165"/>
                  </a:lnTo>
                  <a:lnTo>
                    <a:pt x="0" y="16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884920" y="5391000"/>
              <a:ext cx="753480" cy="19080"/>
            </a:xfrm>
            <a:custGeom>
              <a:avLst/>
              <a:gdLst/>
              <a:ahLst/>
              <a:rect l="l" t="t" r="r" b="b"/>
              <a:pathLst>
                <a:path w="1011" h="25">
                  <a:moveTo>
                    <a:pt x="0" y="0"/>
                  </a:moveTo>
                  <a:lnTo>
                    <a:pt x="1011" y="1"/>
                  </a:lnTo>
                  <a:lnTo>
                    <a:pt x="985" y="25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76000" y="5272200"/>
              <a:ext cx="478440" cy="11160"/>
            </a:xfrm>
            <a:custGeom>
              <a:avLst/>
              <a:gdLst/>
              <a:ahLst/>
              <a:rect l="l" t="t" r="r" b="b"/>
              <a:pathLst>
                <a:path w="644" h="16">
                  <a:moveTo>
                    <a:pt x="6" y="0"/>
                  </a:moveTo>
                  <a:lnTo>
                    <a:pt x="0" y="16"/>
                  </a:lnTo>
                  <a:lnTo>
                    <a:pt x="644" y="16"/>
                  </a:lnTo>
                  <a:lnTo>
                    <a:pt x="63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36040" y="5291280"/>
              <a:ext cx="440640" cy="61920"/>
            </a:xfrm>
            <a:custGeom>
              <a:avLst/>
              <a:gdLst/>
              <a:ahLst/>
              <a:rect l="l" t="t" r="r" b="b"/>
              <a:pathLst>
                <a:path w="590" h="79">
                  <a:moveTo>
                    <a:pt x="49" y="0"/>
                  </a:moveTo>
                  <a:lnTo>
                    <a:pt x="582" y="0"/>
                  </a:lnTo>
                  <a:lnTo>
                    <a:pt x="590" y="79"/>
                  </a:lnTo>
                  <a:lnTo>
                    <a:pt x="532" y="78"/>
                  </a:lnTo>
                  <a:lnTo>
                    <a:pt x="532" y="69"/>
                  </a:lnTo>
                  <a:lnTo>
                    <a:pt x="502" y="69"/>
                  </a:lnTo>
                  <a:lnTo>
                    <a:pt x="499" y="78"/>
                  </a:lnTo>
                  <a:lnTo>
                    <a:pt x="106" y="78"/>
                  </a:lnTo>
                  <a:lnTo>
                    <a:pt x="109" y="69"/>
                  </a:lnTo>
                  <a:lnTo>
                    <a:pt x="73" y="70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78840" y="5291280"/>
              <a:ext cx="88920" cy="2700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2" y="0"/>
                  </a:moveTo>
                  <a:lnTo>
                    <a:pt x="0" y="0"/>
                  </a:lnTo>
                  <a:lnTo>
                    <a:pt x="6" y="36"/>
                  </a:lnTo>
                  <a:lnTo>
                    <a:pt x="120" y="36"/>
                  </a:lnTo>
                  <a:lnTo>
                    <a:pt x="11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385320" y="5322960"/>
              <a:ext cx="94320" cy="3168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39" y="0"/>
                  </a:moveTo>
                  <a:lnTo>
                    <a:pt x="39" y="13"/>
                  </a:lnTo>
                  <a:lnTo>
                    <a:pt x="0" y="13"/>
                  </a:lnTo>
                  <a:lnTo>
                    <a:pt x="6" y="41"/>
                  </a:lnTo>
                  <a:lnTo>
                    <a:pt x="125" y="41"/>
                  </a:lnTo>
                  <a:lnTo>
                    <a:pt x="115" y="12"/>
                  </a:lnTo>
                  <a:lnTo>
                    <a:pt x="76" y="12"/>
                  </a:lnTo>
                  <a:lnTo>
                    <a:pt x="76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72440" y="5292720"/>
              <a:ext cx="131760" cy="61920"/>
            </a:xfrm>
            <a:custGeom>
              <a:avLst/>
              <a:gdLst/>
              <a:ahLst/>
              <a:rect l="l" t="t" r="r" b="b"/>
              <a:pathLst>
                <a:path w="178" h="79">
                  <a:moveTo>
                    <a:pt x="0" y="0"/>
                  </a:moveTo>
                  <a:lnTo>
                    <a:pt x="27" y="79"/>
                  </a:lnTo>
                  <a:lnTo>
                    <a:pt x="178" y="79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41960" y="5046480"/>
              <a:ext cx="252360" cy="3672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54800" y="5014800"/>
              <a:ext cx="3312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081480" y="5067360"/>
              <a:ext cx="372960" cy="2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81480" y="5092560"/>
              <a:ext cx="372960" cy="79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904560" y="20653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29320" y="23702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63800" y="2344680"/>
            <a:ext cx="240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63800" y="2344680"/>
            <a:ext cx="240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92600" y="325440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27520" y="419904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78200" y="497376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04920" y="297972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29320" y="32846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57200" y="389412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05640" y="427500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80880" y="465624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905640" y="51134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66840" y="218268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67560" y="24764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639840" y="309888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640560" y="33908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54240" y="400068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54960" y="422928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68640" y="469908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69360" y="49910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379600" y="206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826920" y="3476520"/>
            <a:ext cx="922680" cy="6145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922320" cy="61452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2987640" y="3933720"/>
            <a:ext cx="849240" cy="565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2987640" y="2997360"/>
            <a:ext cx="849240" cy="56484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2987640" y="2060640"/>
            <a:ext cx="85104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类子网规划实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914400" y="1595520"/>
          <a:ext cx="7113600" cy="1984320"/>
        </p:xfrm>
        <a:graphic>
          <a:graphicData uri="http://schemas.openxmlformats.org/drawingml/2006/table">
            <a:tbl>
              <a:tblPr/>
              <a:tblGrid>
                <a:gridCol w="2073240"/>
                <a:gridCol w="5040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播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4" name=""/>
          <p:cNvGraphicFramePr/>
          <p:nvPr/>
        </p:nvGraphicFramePr>
        <p:xfrm>
          <a:off x="971640" y="4076640"/>
          <a:ext cx="7056360" cy="1584360"/>
        </p:xfrm>
        <a:graphic>
          <a:graphicData uri="http://schemas.openxmlformats.org/drawingml/2006/table">
            <a:tbl>
              <a:tblPr/>
              <a:tblGrid>
                <a:gridCol w="2016000"/>
                <a:gridCol w="5040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掩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.255.25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类子网规划实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914400" y="1523880"/>
          <a:ext cx="7113600" cy="1984320"/>
        </p:xfrm>
        <a:graphic>
          <a:graphicData uri="http://schemas.openxmlformats.org/drawingml/2006/table">
            <a:tbl>
              <a:tblPr/>
              <a:tblGrid>
                <a:gridCol w="2073240"/>
                <a:gridCol w="5040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121-192.168.5.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播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971640" y="4005360"/>
          <a:ext cx="7056360" cy="1584360"/>
        </p:xfrm>
        <a:graphic>
          <a:graphicData uri="http://schemas.openxmlformats.org/drawingml/2006/table">
            <a:tbl>
              <a:tblPr/>
              <a:tblGrid>
                <a:gridCol w="2016000"/>
                <a:gridCol w="5040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掩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.255.255.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变长子网掩码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LSM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106720" cy="11574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6516720" y="1268280"/>
            <a:ext cx="1938240" cy="110808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1938600" cy="115740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4"/>
          <a:stretch/>
        </p:blipFill>
        <p:spPr>
          <a:xfrm>
            <a:off x="6588000" y="3789360"/>
            <a:ext cx="202248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3" name=""/>
          <p:cNvGraphicFramePr/>
          <p:nvPr/>
        </p:nvGraphicFramePr>
        <p:xfrm>
          <a:off x="539640" y="3024360"/>
          <a:ext cx="1933560" cy="11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024360"/>
                    <a:ext cx="19335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5" name=""/>
          <p:cNvSpPr/>
          <p:nvPr/>
        </p:nvSpPr>
        <p:spPr>
          <a:xfrm>
            <a:off x="6660720" y="16279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32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733800" y="28519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64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732720" y="414900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96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33080" y="52999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128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08760" y="43257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4206960" y="2104920"/>
            <a:ext cx="100152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4140000" y="3176640"/>
            <a:ext cx="106812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06960" y="3713040"/>
            <a:ext cx="100152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40360" y="3865680"/>
            <a:ext cx="1001520" cy="15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340000" y="3635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48000" y="213336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60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72000" y="335736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64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72000" y="371592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68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48000" y="50842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7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033200" y="34074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70440" y="331740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通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92.168.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7"/>
          <a:stretch/>
        </p:blipFill>
        <p:spPr>
          <a:xfrm>
            <a:off x="3276720" y="3357720"/>
            <a:ext cx="931680" cy="53316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8"/>
          <a:stretch/>
        </p:blipFill>
        <p:spPr>
          <a:xfrm>
            <a:off x="5148360" y="5229360"/>
            <a:ext cx="931680" cy="53316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9"/>
          <a:stretch/>
        </p:blipFill>
        <p:spPr>
          <a:xfrm>
            <a:off x="5148360" y="4005360"/>
            <a:ext cx="931680" cy="53316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0"/>
          <a:stretch/>
        </p:blipFill>
        <p:spPr>
          <a:xfrm>
            <a:off x="5148360" y="2708280"/>
            <a:ext cx="931680" cy="5335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11"/>
          <a:stretch/>
        </p:blipFill>
        <p:spPr>
          <a:xfrm>
            <a:off x="5148360" y="1700280"/>
            <a:ext cx="931680" cy="53316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6012000" y="19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01200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01200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无类域间路由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I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136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ID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减少了路由表的规模，增了网络的可扩展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"/>
          <p:cNvGraphicFramePr/>
          <p:nvPr/>
        </p:nvGraphicFramePr>
        <p:xfrm>
          <a:off x="611280" y="3716280"/>
          <a:ext cx="159840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6280"/>
                    <a:ext cx="15984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3" name=""/>
          <p:cNvGrpSpPr/>
          <p:nvPr/>
        </p:nvGrpSpPr>
        <p:grpSpPr>
          <a:xfrm>
            <a:off x="899280" y="2637000"/>
            <a:ext cx="7519320" cy="3155760"/>
            <a:chOff x="899280" y="2637000"/>
            <a:chExt cx="7519320" cy="3155760"/>
          </a:xfrm>
        </p:grpSpPr>
        <p:pic>
          <p:nvPicPr>
            <p:cNvPr id="1124" name="" descr=""/>
            <p:cNvPicPr/>
            <p:nvPr/>
          </p:nvPicPr>
          <p:blipFill>
            <a:blip r:embed="rId3"/>
            <a:stretch/>
          </p:blipFill>
          <p:spPr>
            <a:xfrm>
              <a:off x="7045200" y="5036760"/>
              <a:ext cx="1373400" cy="7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4"/>
            <a:stretch/>
          </p:blipFill>
          <p:spPr>
            <a:xfrm>
              <a:off x="7045200" y="3773520"/>
              <a:ext cx="1373400" cy="7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6977160" y="2637000"/>
              <a:ext cx="1441080" cy="7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312960" y="30164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12960" y="4151520"/>
              <a:ext cx="8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12960" y="5414760"/>
              <a:ext cx="79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0" name="" descr=""/>
            <p:cNvPicPr/>
            <p:nvPr/>
          </p:nvPicPr>
          <p:blipFill>
            <a:blip r:embed="rId6"/>
            <a:stretch/>
          </p:blipFill>
          <p:spPr>
            <a:xfrm>
              <a:off x="3125520" y="3710520"/>
              <a:ext cx="1660680" cy="9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2127600" y="421488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99280" y="398736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112880" y="279504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98.168.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030440" y="393120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98.168.2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030440" y="519444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98.168.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18000" y="46184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97880" y="3894480"/>
              <a:ext cx="156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通告路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98.168.0.0/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8" name="" descr=""/>
            <p:cNvPicPr/>
            <p:nvPr/>
          </p:nvPicPr>
          <p:blipFill>
            <a:blip r:embed="rId7"/>
            <a:stretch/>
          </p:blipFill>
          <p:spPr>
            <a:xfrm>
              <a:off x="5555880" y="5181480"/>
              <a:ext cx="8816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8"/>
            <a:stretch/>
          </p:blipFill>
          <p:spPr>
            <a:xfrm>
              <a:off x="5487840" y="3939480"/>
              <a:ext cx="882000" cy="45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9"/>
            <a:stretch/>
          </p:blipFill>
          <p:spPr>
            <a:xfrm>
              <a:off x="5487840" y="2820240"/>
              <a:ext cx="88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 flipV="1">
              <a:off x="4397040" y="3069360"/>
              <a:ext cx="115848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38320" y="418752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97040" y="4684680"/>
              <a:ext cx="122724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547640" y="2204640"/>
            <a:ext cx="65534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栈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模型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栈各层主要协议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网规划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网规划实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1147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1150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92360" y="1773360"/>
            <a:ext cx="4267080" cy="1498320"/>
            <a:chOff x="3492360" y="1773360"/>
            <a:chExt cx="4267080" cy="1498320"/>
          </a:xfrm>
        </p:grpSpPr>
        <p:sp>
          <p:nvSpPr>
            <p:cNvPr id="220" name=""/>
            <p:cNvSpPr/>
            <p:nvPr/>
          </p:nvSpPr>
          <p:spPr>
            <a:xfrm>
              <a:off x="3543120" y="2420640"/>
              <a:ext cx="42163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55720" y="3271680"/>
              <a:ext cx="42037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00840" y="1773360"/>
              <a:ext cx="198936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第一章  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TCP/IP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协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第二章  子网规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3492360" y="2001600"/>
              <a:ext cx="31104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3492360" y="2839680"/>
              <a:ext cx="2970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692440" cy="9781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3924360" y="443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有限公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0920" y="558972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司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ww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华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技术论坛网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rum.huawei-3c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参考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1267920"/>
            <a:ext cx="739116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栈具有简单的分层设计，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模型有清晰的对应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837080" y="2350440"/>
            <a:ext cx="5348160" cy="3800880"/>
            <a:chOff x="1837080" y="2350440"/>
            <a:chExt cx="5348160" cy="3800880"/>
          </a:xfrm>
        </p:grpSpPr>
        <p:grpSp>
          <p:nvGrpSpPr>
            <p:cNvPr id="229" name=""/>
            <p:cNvGrpSpPr/>
            <p:nvPr/>
          </p:nvGrpSpPr>
          <p:grpSpPr>
            <a:xfrm>
              <a:off x="2308320" y="2492280"/>
              <a:ext cx="1676520" cy="3657600"/>
              <a:chOff x="2308320" y="2492280"/>
              <a:chExt cx="1676520" cy="3657600"/>
            </a:xfrm>
          </p:grpSpPr>
          <p:sp>
            <p:nvSpPr>
              <p:cNvPr id="230" name=""/>
              <p:cNvSpPr/>
              <p:nvPr/>
            </p:nvSpPr>
            <p:spPr>
              <a:xfrm>
                <a:off x="2308320" y="2492280"/>
                <a:ext cx="1676520" cy="365760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08320" y="297972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08320" y="346752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08320" y="401616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08320" y="456480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08320" y="511344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08320" y="566208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508720" y="2492280"/>
              <a:ext cx="1676520" cy="36576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4016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08720" y="4549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8720" y="51134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1720" y="2567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应用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21600" y="3056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表示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21600" y="3543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会话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21600" y="4091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1600" y="4642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4680" y="51901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21600" y="5677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物理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67360" y="2350440"/>
              <a:ext cx="546120" cy="17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应 用 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2000" y="4032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22000" y="4642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52920" y="249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37080" y="3024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52920" y="355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37080" y="4091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52920" y="462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52920" y="5158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52920" y="569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60800" y="432108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0800" y="485460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0800" y="569268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22000" y="5691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物理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08720" y="569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5080" y="5158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40000" y="20955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OSI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参考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9080" y="20955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466720" y="1628640"/>
            <a:ext cx="2671200" cy="4191120"/>
            <a:chOff x="2466720" y="1628640"/>
            <a:chExt cx="2671200" cy="4191120"/>
          </a:xfrm>
        </p:grpSpPr>
        <p:sp>
          <p:nvSpPr>
            <p:cNvPr id="268" name=""/>
            <p:cNvSpPr/>
            <p:nvPr/>
          </p:nvSpPr>
          <p:spPr>
            <a:xfrm>
              <a:off x="2494080" y="1628640"/>
              <a:ext cx="2533680" cy="4191120"/>
            </a:xfrm>
            <a:prstGeom prst="rect">
              <a:avLst/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94080" y="240984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94080" y="319104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94080" y="404352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35200" y="1827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9600" y="260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83000" y="3359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68600" y="42116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68600" y="5165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66720" y="1657800"/>
              <a:ext cx="255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HTTP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Telnet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FTP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TFTP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Ping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et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25720" y="2541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41640" y="3573360"/>
              <a:ext cx="1067040" cy="0"/>
            </a:xfrm>
            <a:prstGeom prst="line">
              <a:avLst/>
            </a:prstGeom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24360" y="3573360"/>
              <a:ext cx="17280" cy="493920"/>
            </a:xfrm>
            <a:prstGeom prst="line">
              <a:avLst/>
            </a:prstGeom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53800" y="36234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P/R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73280" y="33804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72760" y="330480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43040" y="4142880"/>
              <a:ext cx="24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DL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65480" y="5132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接口和线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03440" y="498168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70080" y="1825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16000" y="256536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70080" y="3554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42926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191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02360" y="1754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应用程序网络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672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6720" y="451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76720" y="537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08760" y="2565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建立端到端连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89680" y="3409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寻址和路由选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30720" y="4273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物理介质访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51320" y="517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二进制数据流传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0720" y="50594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数据封装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8000" y="1268280"/>
          <a:ext cx="5529240" cy="4841640"/>
        </p:xfrm>
        <a:graphic>
          <a:graphicData uri="http://schemas.openxmlformats.org/drawingml/2006/table">
            <a:tbl>
              <a:tblPr/>
              <a:tblGrid>
                <a:gridCol w="1382760"/>
                <a:gridCol w="1411200"/>
                <a:gridCol w="1352520"/>
                <a:gridCol w="138276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/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PA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应用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195640" y="1483920"/>
            <a:ext cx="547200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传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邮件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rac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传输层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403280" y="1954440"/>
            <a:ext cx="6691320" cy="3043080"/>
            <a:chOff x="1403280" y="1954440"/>
            <a:chExt cx="6691320" cy="3043080"/>
          </a:xfrm>
        </p:grpSpPr>
        <p:sp>
          <p:nvSpPr>
            <p:cNvPr id="308" name=""/>
            <p:cNvSpPr/>
            <p:nvPr/>
          </p:nvSpPr>
          <p:spPr>
            <a:xfrm>
              <a:off x="1403280" y="1954440"/>
              <a:ext cx="2463480" cy="588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03280" y="2730600"/>
              <a:ext cx="2463480" cy="58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03280" y="3508560"/>
              <a:ext cx="2463480" cy="588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03280" y="4221360"/>
              <a:ext cx="2463480" cy="776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0920" y="210528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应用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9840" y="2786040"/>
              <a:ext cx="1289160" cy="403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3000" y="2849760"/>
              <a:ext cx="526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</a:rPr>
                <a:t>传输层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39800" y="3535560"/>
              <a:ext cx="1014120" cy="42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20520" y="360072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6240" y="4349880"/>
              <a:ext cx="1844640" cy="463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45720" y="4437000"/>
              <a:ext cx="838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网络接入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82840" y="1974960"/>
              <a:ext cx="3011760" cy="2138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90840" y="2041560"/>
              <a:ext cx="2735280" cy="1111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88680" y="2105280"/>
              <a:ext cx="5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03440" y="2932200"/>
              <a:ext cx="1984680" cy="1111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00920" y="2995560"/>
              <a:ext cx="619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0000" y="285300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00cc99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UD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报文格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15840" y="1143000"/>
            <a:ext cx="7464600" cy="4908960"/>
            <a:chOff x="915840" y="1143000"/>
            <a:chExt cx="7464600" cy="4908960"/>
          </a:xfrm>
        </p:grpSpPr>
        <p:grpSp>
          <p:nvGrpSpPr>
            <p:cNvPr id="327" name=""/>
            <p:cNvGrpSpPr/>
            <p:nvPr/>
          </p:nvGrpSpPr>
          <p:grpSpPr>
            <a:xfrm>
              <a:off x="931680" y="3048120"/>
              <a:ext cx="7448760" cy="2438640"/>
              <a:chOff x="931680" y="3048120"/>
              <a:chExt cx="7448760" cy="2438640"/>
            </a:xfrm>
          </p:grpSpPr>
          <p:sp>
            <p:nvSpPr>
              <p:cNvPr id="328" name=""/>
              <p:cNvSpPr/>
              <p:nvPr/>
            </p:nvSpPr>
            <p:spPr>
              <a:xfrm>
                <a:off x="931680" y="30481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60480" y="30625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72000" y="3048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395400" y="30481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95600" y="30481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09480" y="3352680"/>
                <a:ext cx="92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源端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02840" y="3352680"/>
                <a:ext cx="104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目的端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61960" y="3689280"/>
                <a:ext cx="92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序列号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61960" y="3993840"/>
                <a:ext cx="92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确认号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46480" y="4211280"/>
                <a:ext cx="3326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R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430800" y="4211280"/>
                <a:ext cx="3326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59400" y="4266360"/>
                <a:ext cx="3326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S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88000" y="4266360"/>
                <a:ext cx="3326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6600" y="4225320"/>
                <a:ext cx="332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45200" y="4266720"/>
                <a:ext cx="3326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90720" y="335304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90720" y="3657600"/>
                <a:ext cx="73152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90720" y="3962520"/>
                <a:ext cx="73152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90720" y="4267440"/>
                <a:ext cx="22860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51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90720" y="45720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90720" y="4876920"/>
                <a:ext cx="73152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48320" y="335304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648320" y="426744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339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48400" y="42350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首部长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43800" y="4267080"/>
                <a:ext cx="92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保留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767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911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053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9625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197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19040" y="4267080"/>
                <a:ext cx="104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窗口大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48320" y="45720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00240" y="4571640"/>
                <a:ext cx="1390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TCP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校验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9040" y="4571640"/>
                <a:ext cx="104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紧急指针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90720" y="5181840"/>
                <a:ext cx="73152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45280" y="48765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选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45280" y="514944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数据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915840" y="1143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4640" y="1157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56160" y="1143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79560" y="1143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79760" y="1143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93640" y="143460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源端口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7000" y="1434600"/>
              <a:ext cx="104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目的端口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7520" y="1752120"/>
              <a:ext cx="14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校验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48520" y="20127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数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93600" y="1739880"/>
              <a:ext cx="365472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93600" y="143496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51200" y="143496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22640" y="243792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报文格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5714640"/>
              <a:ext cx="112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报文格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90720" y="2057400"/>
              <a:ext cx="7311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8320" y="1739880"/>
              <a:ext cx="365436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83400" y="1752120"/>
              <a:ext cx="130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长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3:21:49Z</dcterms:created>
  <dc:creator>xw</dc:creator>
  <dc:description/>
  <dc:language>en-US</dc:language>
  <cp:lastModifiedBy>t24733</cp:lastModifiedBy>
  <cp:lastPrinted>2002-07-08T02:44:19Z</cp:lastPrinted>
  <dcterms:modified xsi:type="dcterms:W3CDTF">2004-01-04T02:59:15Z</dcterms:modified>
  <cp:revision>5</cp:revision>
  <dc:subject/>
  <dc:title>D002 TCP-IP原理和子网规划</dc:title>
</cp:coreProperties>
</file>